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D0A-296D-4ABF-8EE6-C28CAD10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A00-7A66-4ABF-8CEC-F68E5495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206-2F0D-4252-B9C0-A6EFBC20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410-5E4B-44B2-9F14-B7F44525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E4B8-C1FB-4EA9-9341-009A3D52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02A2-3765-433A-A3BB-CAF73883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34E5-E1D2-4888-BB4B-2F5D8AD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9CA1-A083-4A53-BB1C-64C27214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0B2-3B5B-41B5-85DC-CFF396E0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1F61-B833-4C51-8B61-46BCA79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FD2A-82C3-4965-BA76-62075D7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6B5-2387-4C13-A87A-E48BA06B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9592-3C48-42C8-9D6B-E139F34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7528-7CF9-466A-9CA6-16F590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FB73-7A4E-4873-859B-DC9510F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131-9FD2-4F7D-9D69-9EB6D833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A258-E201-491F-B683-FDBA1CA7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5E1-0F94-403F-B5C8-91A7DA6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6F0-627D-4E16-8AFF-E4ECEF5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3EC-DB99-482B-B2E0-6D8FE213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0B8-C8CD-47BC-8895-4565D85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85D-AD83-46BB-93BD-18762AC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EA2-93FC-409F-9DF3-A3F41B3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CB6-9207-4BC8-BE4B-9A47AC4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AACD-D659-40A2-AFB0-3B1DE4531B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02E-8342-4D66-9DDC-49317182F0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rm – up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4 + (-1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18 + -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 + -13 + 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12: Integ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tracting Inte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: To subtract intege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ules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*Keep Change Ch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*Follow rules for adding integ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-2 – 9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2 + (-9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ep Change Ch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1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llow addition ru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5545080"/>
            <a:ext cx="249120" cy="71640"/>
          </a:xfrm>
          <a:custGeom>
            <a:avLst/>
            <a:gdLst/>
            <a:ahLst/>
            <a:rect l="l" t="t" r="r" b="b"/>
            <a:pathLst>
              <a:path w="696" h="199">
                <a:moveTo>
                  <a:pt x="3101" y="15404"/>
                </a:moveTo>
                <a:lnTo>
                  <a:pt x="3101" y="15404"/>
                </a:lnTo>
              </a:path>
              <a:path w="696" h="199">
                <a:moveTo>
                  <a:pt x="3051" y="15404"/>
                </a:moveTo>
                <a:cubicBezTo>
                  <a:pt x="2874" y="15439"/>
                  <a:pt x="2725" y="15498"/>
                  <a:pt x="2555" y="15553"/>
                </a:cubicBezTo>
                <a:cubicBezTo>
                  <a:pt x="2500" y="15571"/>
                  <a:pt x="2420" y="15560"/>
                  <a:pt x="2406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3920" y="1990800"/>
            <a:ext cx="679320" cy="322200"/>
          </a:xfrm>
          <a:custGeom>
            <a:avLst/>
            <a:gdLst/>
            <a:ahLst/>
            <a:rect l="l" t="t" r="r" b="b"/>
            <a:pathLst>
              <a:path w="1886" h="894">
                <a:moveTo>
                  <a:pt x="16123" y="5730"/>
                </a:moveTo>
                <a:cubicBezTo>
                  <a:pt x="16123" y="5652"/>
                  <a:pt x="16123" y="5952"/>
                  <a:pt x="16123" y="5953"/>
                </a:cubicBezTo>
                <a:cubicBezTo>
                  <a:pt x="16138" y="6081"/>
                  <a:pt x="16199" y="6183"/>
                  <a:pt x="16148" y="6300"/>
                </a:cubicBezTo>
              </a:path>
              <a:path w="1886" h="894">
                <a:moveTo>
                  <a:pt x="16594" y="5531"/>
                </a:moveTo>
                <a:cubicBezTo>
                  <a:pt x="16614" y="5707"/>
                  <a:pt x="16619" y="5874"/>
                  <a:pt x="16619" y="6052"/>
                </a:cubicBezTo>
                <a:cubicBezTo>
                  <a:pt x="16619" y="6104"/>
                  <a:pt x="16568" y="6420"/>
                  <a:pt x="16570" y="6424"/>
                </a:cubicBezTo>
                <a:cubicBezTo>
                  <a:pt x="16578" y="6424"/>
                  <a:pt x="16586" y="6424"/>
                  <a:pt x="16594" y="6424"/>
                </a:cubicBezTo>
              </a:path>
              <a:path w="1886" h="894">
                <a:moveTo>
                  <a:pt x="17165" y="5904"/>
                </a:moveTo>
                <a:cubicBezTo>
                  <a:pt x="17231" y="5854"/>
                  <a:pt x="17355" y="5838"/>
                  <a:pt x="17438" y="5829"/>
                </a:cubicBezTo>
                <a:cubicBezTo>
                  <a:pt x="17563" y="5816"/>
                  <a:pt x="17686" y="5792"/>
                  <a:pt x="17810" y="5779"/>
                </a:cubicBezTo>
                <a:cubicBezTo>
                  <a:pt x="17875" y="5772"/>
                  <a:pt x="17943" y="5779"/>
                  <a:pt x="18008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1901880"/>
            <a:ext cx="822240" cy="393480"/>
          </a:xfrm>
          <a:custGeom>
            <a:avLst/>
            <a:gdLst/>
            <a:ahLst/>
            <a:rect l="l" t="t" r="r" b="b"/>
            <a:pathLst>
              <a:path w="2283" h="1093">
                <a:moveTo>
                  <a:pt x="18777" y="5631"/>
                </a:moveTo>
                <a:cubicBezTo>
                  <a:pt x="18852" y="5685"/>
                  <a:pt x="18921" y="5624"/>
                  <a:pt x="19000" y="5631"/>
                </a:cubicBezTo>
                <a:cubicBezTo>
                  <a:pt x="19049" y="5635"/>
                  <a:pt x="19127" y="5658"/>
                  <a:pt x="19174" y="5680"/>
                </a:cubicBezTo>
                <a:cubicBezTo>
                  <a:pt x="19240" y="5711"/>
                  <a:pt x="19263" y="5710"/>
                  <a:pt x="19323" y="5680"/>
                </a:cubicBezTo>
              </a:path>
              <a:path w="2283" h="1093">
                <a:moveTo>
                  <a:pt x="19993" y="5283"/>
                </a:moveTo>
                <a:cubicBezTo>
                  <a:pt x="20025" y="5417"/>
                  <a:pt x="19987" y="5627"/>
                  <a:pt x="19968" y="5779"/>
                </a:cubicBezTo>
                <a:cubicBezTo>
                  <a:pt x="19949" y="5929"/>
                  <a:pt x="19922" y="6083"/>
                  <a:pt x="19893" y="6226"/>
                </a:cubicBezTo>
                <a:cubicBezTo>
                  <a:pt x="19893" y="6234"/>
                  <a:pt x="19893" y="6243"/>
                  <a:pt x="19893" y="6251"/>
                </a:cubicBezTo>
              </a:path>
              <a:path w="2283" h="1093">
                <a:moveTo>
                  <a:pt x="20290" y="5655"/>
                </a:moveTo>
                <a:cubicBezTo>
                  <a:pt x="20419" y="5643"/>
                  <a:pt x="20509" y="5606"/>
                  <a:pt x="20638" y="5631"/>
                </a:cubicBezTo>
                <a:cubicBezTo>
                  <a:pt x="20712" y="5645"/>
                  <a:pt x="20819" y="5688"/>
                  <a:pt x="20836" y="5779"/>
                </a:cubicBezTo>
                <a:cubicBezTo>
                  <a:pt x="20855" y="5882"/>
                  <a:pt x="20782" y="6031"/>
                  <a:pt x="20712" y="6102"/>
                </a:cubicBezTo>
                <a:cubicBezTo>
                  <a:pt x="20647" y="6167"/>
                  <a:pt x="20580" y="6226"/>
                  <a:pt x="20489" y="6226"/>
                </a:cubicBezTo>
                <a:cubicBezTo>
                  <a:pt x="20412" y="6226"/>
                  <a:pt x="20404" y="6166"/>
                  <a:pt x="20389" y="6102"/>
                </a:cubicBezTo>
                <a:cubicBezTo>
                  <a:pt x="20389" y="6094"/>
                  <a:pt x="20389" y="6085"/>
                  <a:pt x="20389" y="6077"/>
                </a:cubicBezTo>
                <a:cubicBezTo>
                  <a:pt x="20444" y="6077"/>
                  <a:pt x="20496" y="6094"/>
                  <a:pt x="20538" y="6102"/>
                </a:cubicBezTo>
                <a:cubicBezTo>
                  <a:pt x="20614" y="6116"/>
                  <a:pt x="20626" y="6137"/>
                  <a:pt x="20687" y="6176"/>
                </a:cubicBezTo>
                <a:cubicBezTo>
                  <a:pt x="20766" y="6226"/>
                  <a:pt x="20858" y="6251"/>
                  <a:pt x="20935" y="6300"/>
                </a:cubicBezTo>
                <a:cubicBezTo>
                  <a:pt x="20985" y="6332"/>
                  <a:pt x="21001" y="6350"/>
                  <a:pt x="21059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2800" y="2874960"/>
            <a:ext cx="741240" cy="9360"/>
          </a:xfrm>
          <a:custGeom>
            <a:avLst/>
            <a:gdLst/>
            <a:ahLst/>
            <a:rect l="l" t="t" r="r" b="b"/>
            <a:pathLst>
              <a:path w="2059" h="26">
                <a:moveTo>
                  <a:pt x="2753" y="8012"/>
                </a:moveTo>
                <a:cubicBezTo>
                  <a:pt x="2799" y="7989"/>
                  <a:pt x="2802" y="7989"/>
                  <a:pt x="2853" y="7987"/>
                </a:cubicBezTo>
                <a:cubicBezTo>
                  <a:pt x="3007" y="7980"/>
                  <a:pt x="3167" y="8012"/>
                  <a:pt x="3324" y="8012"/>
                </a:cubicBezTo>
                <a:cubicBezTo>
                  <a:pt x="3785" y="8012"/>
                  <a:pt x="4260" y="8036"/>
                  <a:pt x="4713" y="7987"/>
                </a:cubicBezTo>
                <a:cubicBezTo>
                  <a:pt x="4746" y="7987"/>
                  <a:pt x="4762" y="7987"/>
                  <a:pt x="4787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46200" y="3544920"/>
            <a:ext cx="223920" cy="295200"/>
          </a:xfrm>
          <a:custGeom>
            <a:avLst/>
            <a:gdLst/>
            <a:ahLst/>
            <a:rect l="l" t="t" r="r" b="b"/>
            <a:pathLst>
              <a:path w="622" h="820">
                <a:moveTo>
                  <a:pt x="6821" y="9947"/>
                </a:moveTo>
                <a:cubicBezTo>
                  <a:pt x="6787" y="10082"/>
                  <a:pt x="6880" y="10264"/>
                  <a:pt x="6896" y="10418"/>
                </a:cubicBezTo>
                <a:cubicBezTo>
                  <a:pt x="6903" y="10481"/>
                  <a:pt x="6896" y="10552"/>
                  <a:pt x="6896" y="10616"/>
                </a:cubicBezTo>
              </a:path>
              <a:path w="622" h="820">
                <a:moveTo>
                  <a:pt x="7342" y="9847"/>
                </a:moveTo>
                <a:cubicBezTo>
                  <a:pt x="7342" y="10015"/>
                  <a:pt x="7321" y="10176"/>
                  <a:pt x="7317" y="10344"/>
                </a:cubicBezTo>
                <a:cubicBezTo>
                  <a:pt x="7315" y="10428"/>
                  <a:pt x="7308" y="10492"/>
                  <a:pt x="7342" y="10567"/>
                </a:cubicBezTo>
                <a:cubicBezTo>
                  <a:pt x="7368" y="10626"/>
                  <a:pt x="7428" y="10753"/>
                  <a:pt x="7392" y="105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1160" y="2840040"/>
            <a:ext cx="1081080" cy="44280"/>
          </a:xfrm>
          <a:custGeom>
            <a:avLst/>
            <a:gdLst/>
            <a:ahLst/>
            <a:rect l="l" t="t" r="r" b="b"/>
            <a:pathLst>
              <a:path w="3003" h="125">
                <a:moveTo>
                  <a:pt x="5804" y="8012"/>
                </a:moveTo>
                <a:cubicBezTo>
                  <a:pt x="5895" y="7997"/>
                  <a:pt x="5935" y="7989"/>
                  <a:pt x="6028" y="7987"/>
                </a:cubicBezTo>
                <a:cubicBezTo>
                  <a:pt x="6197" y="7983"/>
                  <a:pt x="6379" y="7979"/>
                  <a:pt x="6548" y="7962"/>
                </a:cubicBezTo>
                <a:cubicBezTo>
                  <a:pt x="6707" y="7946"/>
                  <a:pt x="6860" y="7917"/>
                  <a:pt x="7020" y="7913"/>
                </a:cubicBezTo>
                <a:cubicBezTo>
                  <a:pt x="7177" y="7909"/>
                  <a:pt x="7332" y="7868"/>
                  <a:pt x="7491" y="7888"/>
                </a:cubicBezTo>
                <a:cubicBezTo>
                  <a:pt x="7643" y="7907"/>
                  <a:pt x="7783" y="7913"/>
                  <a:pt x="7938" y="7913"/>
                </a:cubicBezTo>
                <a:cubicBezTo>
                  <a:pt x="8148" y="7913"/>
                  <a:pt x="8353" y="7919"/>
                  <a:pt x="8558" y="7938"/>
                </a:cubicBezTo>
                <a:cubicBezTo>
                  <a:pt x="8670" y="7948"/>
                  <a:pt x="8702" y="7948"/>
                  <a:pt x="8781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4040" y="3598920"/>
            <a:ext cx="276120" cy="12528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8037" y="10319"/>
                </a:moveTo>
                <a:cubicBezTo>
                  <a:pt x="8175" y="10319"/>
                  <a:pt x="8276" y="10274"/>
                  <a:pt x="8409" y="10244"/>
                </a:cubicBezTo>
                <a:cubicBezTo>
                  <a:pt x="8487" y="10226"/>
                  <a:pt x="8751" y="10216"/>
                  <a:pt x="8806" y="10170"/>
                </a:cubicBezTo>
                <a:cubicBezTo>
                  <a:pt x="8806" y="10162"/>
                  <a:pt x="8806" y="10153"/>
                  <a:pt x="8806" y="10145"/>
                </a:cubicBezTo>
              </a:path>
              <a:path w="770" h="349">
                <a:moveTo>
                  <a:pt x="8458" y="9996"/>
                </a:moveTo>
                <a:cubicBezTo>
                  <a:pt x="8458" y="10085"/>
                  <a:pt x="8470" y="10156"/>
                  <a:pt x="8483" y="10244"/>
                </a:cubicBezTo>
                <a:cubicBezTo>
                  <a:pt x="8490" y="10292"/>
                  <a:pt x="8498" y="10332"/>
                  <a:pt x="8533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17920" y="2820960"/>
            <a:ext cx="1500120" cy="179280"/>
          </a:xfrm>
          <a:custGeom>
            <a:avLst/>
            <a:gdLst/>
            <a:ahLst/>
            <a:rect l="l" t="t" r="r" b="b"/>
            <a:pathLst>
              <a:path w="4168" h="497">
                <a:moveTo>
                  <a:pt x="9773" y="8186"/>
                </a:moveTo>
                <a:cubicBezTo>
                  <a:pt x="9912" y="8159"/>
                  <a:pt x="10036" y="8141"/>
                  <a:pt x="10170" y="8037"/>
                </a:cubicBezTo>
                <a:cubicBezTo>
                  <a:pt x="10218" y="8000"/>
                  <a:pt x="10221" y="7983"/>
                  <a:pt x="10244" y="7962"/>
                </a:cubicBezTo>
                <a:cubicBezTo>
                  <a:pt x="10260" y="7990"/>
                  <a:pt x="10300" y="8054"/>
                  <a:pt x="10319" y="8111"/>
                </a:cubicBezTo>
                <a:cubicBezTo>
                  <a:pt x="10357" y="8225"/>
                  <a:pt x="10460" y="8334"/>
                  <a:pt x="10592" y="8334"/>
                </a:cubicBezTo>
                <a:cubicBezTo>
                  <a:pt x="10734" y="8334"/>
                  <a:pt x="10893" y="8231"/>
                  <a:pt x="10964" y="8111"/>
                </a:cubicBezTo>
                <a:cubicBezTo>
                  <a:pt x="10994" y="8060"/>
                  <a:pt x="11010" y="8010"/>
                  <a:pt x="11038" y="7962"/>
                </a:cubicBezTo>
                <a:cubicBezTo>
                  <a:pt x="11120" y="8086"/>
                  <a:pt x="11146" y="8138"/>
                  <a:pt x="11286" y="8186"/>
                </a:cubicBezTo>
                <a:cubicBezTo>
                  <a:pt x="11413" y="8229"/>
                  <a:pt x="11554" y="8204"/>
                  <a:pt x="11658" y="8111"/>
                </a:cubicBezTo>
                <a:cubicBezTo>
                  <a:pt x="11725" y="8051"/>
                  <a:pt x="11784" y="7940"/>
                  <a:pt x="11807" y="7863"/>
                </a:cubicBezTo>
                <a:cubicBezTo>
                  <a:pt x="11807" y="7855"/>
                  <a:pt x="11807" y="7846"/>
                  <a:pt x="11807" y="7838"/>
                </a:cubicBezTo>
                <a:cubicBezTo>
                  <a:pt x="11840" y="7938"/>
                  <a:pt x="11860" y="8018"/>
                  <a:pt x="11956" y="8086"/>
                </a:cubicBezTo>
                <a:cubicBezTo>
                  <a:pt x="12047" y="8151"/>
                  <a:pt x="12206" y="8195"/>
                  <a:pt x="12303" y="8111"/>
                </a:cubicBezTo>
                <a:cubicBezTo>
                  <a:pt x="12352" y="8069"/>
                  <a:pt x="12389" y="7989"/>
                  <a:pt x="12427" y="7938"/>
                </a:cubicBezTo>
                <a:cubicBezTo>
                  <a:pt x="12445" y="8021"/>
                  <a:pt x="12433" y="8063"/>
                  <a:pt x="12502" y="8136"/>
                </a:cubicBezTo>
                <a:cubicBezTo>
                  <a:pt x="12565" y="8202"/>
                  <a:pt x="12649" y="8207"/>
                  <a:pt x="12725" y="8186"/>
                </a:cubicBezTo>
                <a:cubicBezTo>
                  <a:pt x="12764" y="8175"/>
                  <a:pt x="12785" y="8110"/>
                  <a:pt x="12799" y="8086"/>
                </a:cubicBezTo>
                <a:cubicBezTo>
                  <a:pt x="12799" y="8078"/>
                  <a:pt x="12799" y="8070"/>
                  <a:pt x="12799" y="8062"/>
                </a:cubicBezTo>
                <a:cubicBezTo>
                  <a:pt x="12864" y="8091"/>
                  <a:pt x="12929" y="8122"/>
                  <a:pt x="12998" y="8161"/>
                </a:cubicBezTo>
                <a:cubicBezTo>
                  <a:pt x="13120" y="8229"/>
                  <a:pt x="13193" y="8228"/>
                  <a:pt x="13295" y="8136"/>
                </a:cubicBezTo>
                <a:cubicBezTo>
                  <a:pt x="13339" y="8096"/>
                  <a:pt x="13411" y="8017"/>
                  <a:pt x="13419" y="7987"/>
                </a:cubicBezTo>
                <a:cubicBezTo>
                  <a:pt x="13419" y="7962"/>
                  <a:pt x="13419" y="7954"/>
                  <a:pt x="13419" y="7938"/>
                </a:cubicBezTo>
                <a:cubicBezTo>
                  <a:pt x="13483" y="8007"/>
                  <a:pt x="13534" y="8091"/>
                  <a:pt x="13618" y="8136"/>
                </a:cubicBezTo>
                <a:cubicBezTo>
                  <a:pt x="13709" y="8185"/>
                  <a:pt x="13767" y="8147"/>
                  <a:pt x="13841" y="8086"/>
                </a:cubicBezTo>
                <a:cubicBezTo>
                  <a:pt x="13887" y="8049"/>
                  <a:pt x="13920" y="8009"/>
                  <a:pt x="13940" y="7962"/>
                </a:cubicBezTo>
                <a:cubicBezTo>
                  <a:pt x="13951" y="7937"/>
                  <a:pt x="13938" y="7890"/>
                  <a:pt x="13940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02000" y="3510000"/>
            <a:ext cx="1500120" cy="312840"/>
          </a:xfrm>
          <a:custGeom>
            <a:avLst/>
            <a:gdLst/>
            <a:ahLst/>
            <a:rect l="l" t="t" r="r" b="b"/>
            <a:pathLst>
              <a:path w="4168" h="869">
                <a:moveTo>
                  <a:pt x="9451" y="9823"/>
                </a:moveTo>
                <a:cubicBezTo>
                  <a:pt x="9499" y="9995"/>
                  <a:pt x="9519" y="10168"/>
                  <a:pt x="9550" y="10344"/>
                </a:cubicBezTo>
                <a:cubicBezTo>
                  <a:pt x="9565" y="10433"/>
                  <a:pt x="9575" y="10504"/>
                  <a:pt x="9575" y="10592"/>
                </a:cubicBezTo>
              </a:path>
              <a:path w="4168" h="869">
                <a:moveTo>
                  <a:pt x="9922" y="10021"/>
                </a:moveTo>
                <a:cubicBezTo>
                  <a:pt x="10052" y="9941"/>
                  <a:pt x="10183" y="9868"/>
                  <a:pt x="10344" y="9897"/>
                </a:cubicBezTo>
                <a:cubicBezTo>
                  <a:pt x="10474" y="9921"/>
                  <a:pt x="10650" y="9986"/>
                  <a:pt x="10691" y="10120"/>
                </a:cubicBezTo>
                <a:cubicBezTo>
                  <a:pt x="10714" y="10194"/>
                  <a:pt x="10758" y="10386"/>
                  <a:pt x="10666" y="10443"/>
                </a:cubicBezTo>
                <a:cubicBezTo>
                  <a:pt x="10546" y="10517"/>
                  <a:pt x="10342" y="10451"/>
                  <a:pt x="10220" y="10418"/>
                </a:cubicBezTo>
                <a:cubicBezTo>
                  <a:pt x="10133" y="10395"/>
                  <a:pt x="10065" y="10360"/>
                  <a:pt x="10021" y="10294"/>
                </a:cubicBezTo>
                <a:cubicBezTo>
                  <a:pt x="10096" y="10256"/>
                  <a:pt x="10184" y="10259"/>
                  <a:pt x="10269" y="10294"/>
                </a:cubicBezTo>
                <a:cubicBezTo>
                  <a:pt x="10352" y="10328"/>
                  <a:pt x="10451" y="10382"/>
                  <a:pt x="10517" y="10443"/>
                </a:cubicBezTo>
                <a:cubicBezTo>
                  <a:pt x="10574" y="10496"/>
                  <a:pt x="10612" y="10488"/>
                  <a:pt x="10666" y="10542"/>
                </a:cubicBezTo>
                <a:cubicBezTo>
                  <a:pt x="10696" y="10572"/>
                  <a:pt x="10732" y="10590"/>
                  <a:pt x="10765" y="10616"/>
                </a:cubicBezTo>
              </a:path>
              <a:path w="4168" h="869">
                <a:moveTo>
                  <a:pt x="11112" y="10269"/>
                </a:moveTo>
                <a:cubicBezTo>
                  <a:pt x="11081" y="10221"/>
                  <a:pt x="11130" y="10237"/>
                  <a:pt x="11187" y="10220"/>
                </a:cubicBezTo>
                <a:cubicBezTo>
                  <a:pt x="11299" y="10186"/>
                  <a:pt x="11417" y="10174"/>
                  <a:pt x="11534" y="10170"/>
                </a:cubicBezTo>
                <a:cubicBezTo>
                  <a:pt x="11596" y="10170"/>
                  <a:pt x="11611" y="10180"/>
                  <a:pt x="11633" y="10145"/>
                </a:cubicBezTo>
              </a:path>
              <a:path w="4168" h="869">
                <a:moveTo>
                  <a:pt x="11112" y="10468"/>
                </a:moveTo>
                <a:cubicBezTo>
                  <a:pt x="11209" y="10468"/>
                  <a:pt x="11291" y="10451"/>
                  <a:pt x="11385" y="10443"/>
                </a:cubicBezTo>
                <a:cubicBezTo>
                  <a:pt x="11435" y="10439"/>
                  <a:pt x="11597" y="10483"/>
                  <a:pt x="11633" y="10468"/>
                </a:cubicBezTo>
                <a:cubicBezTo>
                  <a:pt x="11656" y="10445"/>
                  <a:pt x="11660" y="10437"/>
                  <a:pt x="11683" y="10443"/>
                </a:cubicBezTo>
              </a:path>
              <a:path w="4168" h="869">
                <a:moveTo>
                  <a:pt x="12229" y="9748"/>
                </a:moveTo>
                <a:cubicBezTo>
                  <a:pt x="12377" y="9748"/>
                  <a:pt x="12530" y="9733"/>
                  <a:pt x="12675" y="9773"/>
                </a:cubicBezTo>
                <a:cubicBezTo>
                  <a:pt x="12851" y="9821"/>
                  <a:pt x="12895" y="9928"/>
                  <a:pt x="12874" y="10096"/>
                </a:cubicBezTo>
                <a:cubicBezTo>
                  <a:pt x="12855" y="10250"/>
                  <a:pt x="12758" y="10349"/>
                  <a:pt x="12601" y="10368"/>
                </a:cubicBezTo>
                <a:cubicBezTo>
                  <a:pt x="12513" y="10379"/>
                  <a:pt x="12324" y="10365"/>
                  <a:pt x="12254" y="10294"/>
                </a:cubicBezTo>
                <a:cubicBezTo>
                  <a:pt x="12254" y="10269"/>
                  <a:pt x="12254" y="10261"/>
                  <a:pt x="12254" y="10244"/>
                </a:cubicBezTo>
                <a:cubicBezTo>
                  <a:pt x="12384" y="10223"/>
                  <a:pt x="12453" y="10260"/>
                  <a:pt x="12576" y="10319"/>
                </a:cubicBezTo>
                <a:cubicBezTo>
                  <a:pt x="12665" y="10362"/>
                  <a:pt x="12713" y="10374"/>
                  <a:pt x="12774" y="10443"/>
                </a:cubicBezTo>
                <a:cubicBezTo>
                  <a:pt x="12816" y="10484"/>
                  <a:pt x="12824" y="10492"/>
                  <a:pt x="12849" y="10517"/>
                </a:cubicBezTo>
              </a:path>
              <a:path w="4168" h="869">
                <a:moveTo>
                  <a:pt x="13122" y="9947"/>
                </a:moveTo>
                <a:cubicBezTo>
                  <a:pt x="13258" y="9915"/>
                  <a:pt x="13380" y="9893"/>
                  <a:pt x="13519" y="9922"/>
                </a:cubicBezTo>
                <a:cubicBezTo>
                  <a:pt x="13669" y="9953"/>
                  <a:pt x="13626" y="10071"/>
                  <a:pt x="13543" y="10145"/>
                </a:cubicBezTo>
                <a:cubicBezTo>
                  <a:pt x="13448" y="10217"/>
                  <a:pt x="13419" y="10240"/>
                  <a:pt x="13345" y="10269"/>
                </a:cubicBezTo>
                <a:cubicBezTo>
                  <a:pt x="13389" y="10269"/>
                  <a:pt x="13491" y="10265"/>
                  <a:pt x="13519" y="10294"/>
                </a:cubicBezTo>
                <a:cubicBezTo>
                  <a:pt x="13569" y="10345"/>
                  <a:pt x="13574" y="10396"/>
                  <a:pt x="13568" y="10443"/>
                </a:cubicBezTo>
                <a:cubicBezTo>
                  <a:pt x="13559" y="10510"/>
                  <a:pt x="13549" y="10573"/>
                  <a:pt x="13469" y="10592"/>
                </a:cubicBezTo>
                <a:cubicBezTo>
                  <a:pt x="13401" y="10608"/>
                  <a:pt x="13326" y="10581"/>
                  <a:pt x="13271" y="10542"/>
                </a:cubicBezTo>
                <a:cubicBezTo>
                  <a:pt x="13263" y="10534"/>
                  <a:pt x="13254" y="10525"/>
                  <a:pt x="13246" y="105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41880" y="4589640"/>
            <a:ext cx="536400" cy="260280"/>
          </a:xfrm>
          <a:custGeom>
            <a:avLst/>
            <a:gdLst/>
            <a:ahLst/>
            <a:rect l="l" t="t" r="r" b="b"/>
            <a:pathLst>
              <a:path w="1490" h="720">
                <a:moveTo>
                  <a:pt x="11782" y="13171"/>
                </a:moveTo>
                <a:cubicBezTo>
                  <a:pt x="11963" y="13171"/>
                  <a:pt x="12152" y="13189"/>
                  <a:pt x="12328" y="13146"/>
                </a:cubicBezTo>
                <a:cubicBezTo>
                  <a:pt x="12389" y="13131"/>
                  <a:pt x="12417" y="13122"/>
                  <a:pt x="12477" y="13122"/>
                </a:cubicBezTo>
              </a:path>
              <a:path w="1490" h="720">
                <a:moveTo>
                  <a:pt x="12502" y="12849"/>
                </a:moveTo>
                <a:cubicBezTo>
                  <a:pt x="12633" y="12798"/>
                  <a:pt x="12751" y="12732"/>
                  <a:pt x="12898" y="12750"/>
                </a:cubicBezTo>
                <a:cubicBezTo>
                  <a:pt x="12987" y="12761"/>
                  <a:pt x="13062" y="12817"/>
                  <a:pt x="13097" y="12898"/>
                </a:cubicBezTo>
                <a:cubicBezTo>
                  <a:pt x="13148" y="13014"/>
                  <a:pt x="13119" y="13122"/>
                  <a:pt x="13047" y="13221"/>
                </a:cubicBezTo>
                <a:cubicBezTo>
                  <a:pt x="12967" y="13331"/>
                  <a:pt x="12837" y="13296"/>
                  <a:pt x="12725" y="13271"/>
                </a:cubicBezTo>
                <a:cubicBezTo>
                  <a:pt x="12633" y="13251"/>
                  <a:pt x="12589" y="13234"/>
                  <a:pt x="12526" y="13171"/>
                </a:cubicBezTo>
                <a:cubicBezTo>
                  <a:pt x="12539" y="13118"/>
                  <a:pt x="12594" y="13089"/>
                  <a:pt x="12650" y="13072"/>
                </a:cubicBezTo>
                <a:cubicBezTo>
                  <a:pt x="12666" y="13067"/>
                  <a:pt x="12824" y="13087"/>
                  <a:pt x="12849" y="13097"/>
                </a:cubicBezTo>
                <a:cubicBezTo>
                  <a:pt x="12896" y="13115"/>
                  <a:pt x="12952" y="13136"/>
                  <a:pt x="12998" y="13171"/>
                </a:cubicBezTo>
                <a:cubicBezTo>
                  <a:pt x="13050" y="13211"/>
                  <a:pt x="13095" y="13273"/>
                  <a:pt x="13146" y="13320"/>
                </a:cubicBezTo>
                <a:cubicBezTo>
                  <a:pt x="13192" y="13362"/>
                  <a:pt x="13257" y="13412"/>
                  <a:pt x="13271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0760" y="4554360"/>
            <a:ext cx="214200" cy="19692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13891" y="12898"/>
                </a:moveTo>
                <a:cubicBezTo>
                  <a:pt x="13952" y="12898"/>
                  <a:pt x="14003" y="12876"/>
                  <a:pt x="14064" y="12874"/>
                </a:cubicBezTo>
                <a:cubicBezTo>
                  <a:pt x="14204" y="12868"/>
                  <a:pt x="14346" y="12874"/>
                  <a:pt x="14486" y="12874"/>
                </a:cubicBezTo>
              </a:path>
              <a:path w="596" h="547">
                <a:moveTo>
                  <a:pt x="14213" y="12650"/>
                </a:moveTo>
                <a:cubicBezTo>
                  <a:pt x="14213" y="12729"/>
                  <a:pt x="14234" y="12795"/>
                  <a:pt x="14238" y="12874"/>
                </a:cubicBezTo>
                <a:cubicBezTo>
                  <a:pt x="14243" y="12981"/>
                  <a:pt x="14238" y="13089"/>
                  <a:pt x="14238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8080" y="4518000"/>
            <a:ext cx="1420920" cy="403200"/>
          </a:xfrm>
          <a:custGeom>
            <a:avLst/>
            <a:gdLst/>
            <a:ahLst/>
            <a:rect l="l" t="t" r="r" b="b"/>
            <a:pathLst>
              <a:path w="3945" h="1117">
                <a:moveTo>
                  <a:pt x="15329" y="12948"/>
                </a:moveTo>
                <a:cubicBezTo>
                  <a:pt x="15393" y="12980"/>
                  <a:pt x="15475" y="12995"/>
                  <a:pt x="15553" y="12998"/>
                </a:cubicBezTo>
                <a:cubicBezTo>
                  <a:pt x="15660" y="13001"/>
                  <a:pt x="15768" y="12998"/>
                  <a:pt x="15875" y="12998"/>
                </a:cubicBezTo>
              </a:path>
              <a:path w="3945" h="1117">
                <a:moveTo>
                  <a:pt x="16570" y="12849"/>
                </a:moveTo>
                <a:cubicBezTo>
                  <a:pt x="16554" y="12769"/>
                  <a:pt x="16487" y="12700"/>
                  <a:pt x="16421" y="12650"/>
                </a:cubicBezTo>
                <a:cubicBezTo>
                  <a:pt x="16376" y="12616"/>
                  <a:pt x="16279" y="12549"/>
                  <a:pt x="16222" y="12551"/>
                </a:cubicBezTo>
                <a:cubicBezTo>
                  <a:pt x="16145" y="12554"/>
                  <a:pt x="16077" y="12607"/>
                  <a:pt x="16049" y="12675"/>
                </a:cubicBezTo>
                <a:cubicBezTo>
                  <a:pt x="16030" y="12721"/>
                  <a:pt x="15975" y="12818"/>
                  <a:pt x="15999" y="12874"/>
                </a:cubicBezTo>
                <a:cubicBezTo>
                  <a:pt x="16037" y="12964"/>
                  <a:pt x="16237" y="12923"/>
                  <a:pt x="16297" y="12898"/>
                </a:cubicBezTo>
                <a:cubicBezTo>
                  <a:pt x="16346" y="12877"/>
                  <a:pt x="16434" y="12810"/>
                  <a:pt x="16446" y="12774"/>
                </a:cubicBezTo>
                <a:cubicBezTo>
                  <a:pt x="16473" y="12859"/>
                  <a:pt x="16429" y="12972"/>
                  <a:pt x="16421" y="13072"/>
                </a:cubicBezTo>
                <a:cubicBezTo>
                  <a:pt x="16413" y="13168"/>
                  <a:pt x="16385" y="13364"/>
                  <a:pt x="16446" y="13444"/>
                </a:cubicBezTo>
              </a:path>
              <a:path w="3945" h="1117">
                <a:moveTo>
                  <a:pt x="17165" y="12923"/>
                </a:moveTo>
                <a:cubicBezTo>
                  <a:pt x="17267" y="12877"/>
                  <a:pt x="17376" y="12860"/>
                  <a:pt x="17487" y="12849"/>
                </a:cubicBezTo>
                <a:cubicBezTo>
                  <a:pt x="17535" y="12844"/>
                  <a:pt x="17587" y="12849"/>
                  <a:pt x="17636" y="12849"/>
                </a:cubicBezTo>
              </a:path>
              <a:path w="3945" h="1117">
                <a:moveTo>
                  <a:pt x="17314" y="13271"/>
                </a:moveTo>
                <a:cubicBezTo>
                  <a:pt x="17392" y="13271"/>
                  <a:pt x="17459" y="13292"/>
                  <a:pt x="17537" y="13295"/>
                </a:cubicBezTo>
                <a:cubicBezTo>
                  <a:pt x="17642" y="13299"/>
                  <a:pt x="17733" y="13306"/>
                  <a:pt x="17835" y="13320"/>
                </a:cubicBezTo>
                <a:cubicBezTo>
                  <a:pt x="17875" y="13325"/>
                  <a:pt x="17919" y="13320"/>
                  <a:pt x="17959" y="13320"/>
                </a:cubicBezTo>
              </a:path>
              <a:path w="3945" h="1117">
                <a:moveTo>
                  <a:pt x="18852" y="12650"/>
                </a:moveTo>
                <a:cubicBezTo>
                  <a:pt x="18852" y="12593"/>
                  <a:pt x="18852" y="12717"/>
                  <a:pt x="18852" y="12774"/>
                </a:cubicBezTo>
                <a:cubicBezTo>
                  <a:pt x="18852" y="12936"/>
                  <a:pt x="18862" y="13087"/>
                  <a:pt x="18876" y="13246"/>
                </a:cubicBezTo>
                <a:cubicBezTo>
                  <a:pt x="18884" y="13334"/>
                  <a:pt x="18884" y="13411"/>
                  <a:pt x="18901" y="13494"/>
                </a:cubicBezTo>
              </a:path>
              <a:path w="3945" h="1117">
                <a:moveTo>
                  <a:pt x="19248" y="12725"/>
                </a:moveTo>
                <a:cubicBezTo>
                  <a:pt x="19248" y="12708"/>
                  <a:pt x="19248" y="12692"/>
                  <a:pt x="19248" y="12675"/>
                </a:cubicBezTo>
                <a:cubicBezTo>
                  <a:pt x="19248" y="12637"/>
                  <a:pt x="19272" y="12944"/>
                  <a:pt x="19273" y="12998"/>
                </a:cubicBezTo>
                <a:cubicBezTo>
                  <a:pt x="19277" y="13221"/>
                  <a:pt x="19273" y="13444"/>
                  <a:pt x="19273" y="13667"/>
                </a:cubicBezTo>
              </a:path>
              <a:path w="3945" h="1117">
                <a:moveTo>
                  <a:pt x="18256" y="13047"/>
                </a:moveTo>
                <a:cubicBezTo>
                  <a:pt x="18248" y="13047"/>
                  <a:pt x="18239" y="13047"/>
                  <a:pt x="18231" y="13047"/>
                </a:cubicBezTo>
                <a:cubicBezTo>
                  <a:pt x="18310" y="13021"/>
                  <a:pt x="18483" y="13041"/>
                  <a:pt x="18579" y="13072"/>
                </a:cubicBezTo>
                <a:cubicBezTo>
                  <a:pt x="18611" y="13082"/>
                  <a:pt x="18621" y="13101"/>
                  <a:pt x="18628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2 – (-9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-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3 - 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3 – (-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1990800"/>
            <a:ext cx="1305000" cy="1027080"/>
          </a:xfrm>
          <a:custGeom>
            <a:avLst/>
            <a:gdLst/>
            <a:ahLst/>
            <a:rect l="l" t="t" r="r" b="b"/>
            <a:pathLst>
              <a:path w="3623" h="2854">
                <a:moveTo>
                  <a:pt x="18157" y="5556"/>
                </a:moveTo>
                <a:cubicBezTo>
                  <a:pt x="18157" y="5497"/>
                  <a:pt x="18117" y="5667"/>
                  <a:pt x="18107" y="5705"/>
                </a:cubicBezTo>
                <a:cubicBezTo>
                  <a:pt x="18096" y="5745"/>
                  <a:pt x="18116" y="5810"/>
                  <a:pt x="18107" y="5854"/>
                </a:cubicBezTo>
                <a:cubicBezTo>
                  <a:pt x="18096" y="5911"/>
                  <a:pt x="18132" y="5967"/>
                  <a:pt x="18132" y="6028"/>
                </a:cubicBezTo>
                <a:cubicBezTo>
                  <a:pt x="18132" y="6061"/>
                  <a:pt x="18132" y="6094"/>
                  <a:pt x="18132" y="6127"/>
                </a:cubicBezTo>
              </a:path>
              <a:path w="3623" h="2854">
                <a:moveTo>
                  <a:pt x="18479" y="5655"/>
                </a:moveTo>
                <a:cubicBezTo>
                  <a:pt x="18517" y="5628"/>
                  <a:pt x="18531" y="5631"/>
                  <a:pt x="18579" y="5631"/>
                </a:cubicBezTo>
                <a:cubicBezTo>
                  <a:pt x="18624" y="5631"/>
                  <a:pt x="18648" y="5655"/>
                  <a:pt x="18703" y="5655"/>
                </a:cubicBezTo>
                <a:cubicBezTo>
                  <a:pt x="18777" y="5655"/>
                  <a:pt x="18796" y="5705"/>
                  <a:pt x="18876" y="5705"/>
                </a:cubicBezTo>
                <a:cubicBezTo>
                  <a:pt x="18921" y="5705"/>
                  <a:pt x="18937" y="5720"/>
                  <a:pt x="18976" y="5730"/>
                </a:cubicBezTo>
              </a:path>
              <a:path w="3623" h="2854">
                <a:moveTo>
                  <a:pt x="17636" y="6573"/>
                </a:moveTo>
                <a:cubicBezTo>
                  <a:pt x="17696" y="6653"/>
                  <a:pt x="17695" y="6795"/>
                  <a:pt x="17686" y="6896"/>
                </a:cubicBezTo>
                <a:cubicBezTo>
                  <a:pt x="17666" y="6995"/>
                  <a:pt x="17658" y="7010"/>
                  <a:pt x="17661" y="7069"/>
                </a:cubicBezTo>
              </a:path>
              <a:path w="3623" h="2854">
                <a:moveTo>
                  <a:pt x="18083" y="6548"/>
                </a:moveTo>
                <a:cubicBezTo>
                  <a:pt x="18221" y="6535"/>
                  <a:pt x="18374" y="6508"/>
                  <a:pt x="18479" y="6623"/>
                </a:cubicBezTo>
                <a:cubicBezTo>
                  <a:pt x="18547" y="6697"/>
                  <a:pt x="18591" y="6828"/>
                  <a:pt x="18529" y="6921"/>
                </a:cubicBezTo>
                <a:cubicBezTo>
                  <a:pt x="18451" y="7038"/>
                  <a:pt x="18365" y="7099"/>
                  <a:pt x="18231" y="7045"/>
                </a:cubicBezTo>
                <a:cubicBezTo>
                  <a:pt x="18161" y="7017"/>
                  <a:pt x="18052" y="6972"/>
                  <a:pt x="18033" y="6896"/>
                </a:cubicBezTo>
                <a:cubicBezTo>
                  <a:pt x="18137" y="6881"/>
                  <a:pt x="18184" y="6875"/>
                  <a:pt x="18281" y="6896"/>
                </a:cubicBezTo>
                <a:cubicBezTo>
                  <a:pt x="18352" y="6911"/>
                  <a:pt x="18416" y="6956"/>
                  <a:pt x="18479" y="6995"/>
                </a:cubicBezTo>
                <a:cubicBezTo>
                  <a:pt x="18558" y="7044"/>
                  <a:pt x="18588" y="7069"/>
                  <a:pt x="18678" y="7069"/>
                </a:cubicBezTo>
              </a:path>
              <a:path w="3623" h="2854">
                <a:moveTo>
                  <a:pt x="16495" y="6821"/>
                </a:moveTo>
                <a:cubicBezTo>
                  <a:pt x="16566" y="6821"/>
                  <a:pt x="16626" y="6838"/>
                  <a:pt x="16694" y="6846"/>
                </a:cubicBezTo>
                <a:cubicBezTo>
                  <a:pt x="16781" y="6856"/>
                  <a:pt x="16880" y="6854"/>
                  <a:pt x="16966" y="6871"/>
                </a:cubicBezTo>
                <a:cubicBezTo>
                  <a:pt x="17027" y="6883"/>
                  <a:pt x="17055" y="6896"/>
                  <a:pt x="17115" y="6896"/>
                </a:cubicBezTo>
              </a:path>
              <a:path w="3623" h="2854">
                <a:moveTo>
                  <a:pt x="19869" y="6449"/>
                </a:moveTo>
                <a:cubicBezTo>
                  <a:pt x="19822" y="6414"/>
                  <a:pt x="19736" y="6342"/>
                  <a:pt x="19670" y="6300"/>
                </a:cubicBezTo>
                <a:cubicBezTo>
                  <a:pt x="19475" y="6174"/>
                  <a:pt x="19201" y="6061"/>
                  <a:pt x="18976" y="6003"/>
                </a:cubicBezTo>
                <a:cubicBezTo>
                  <a:pt x="18686" y="5928"/>
                  <a:pt x="18391" y="6017"/>
                  <a:pt x="18107" y="6077"/>
                </a:cubicBezTo>
                <a:cubicBezTo>
                  <a:pt x="17801" y="6142"/>
                  <a:pt x="17512" y="6215"/>
                  <a:pt x="17239" y="6375"/>
                </a:cubicBezTo>
                <a:cubicBezTo>
                  <a:pt x="17011" y="6509"/>
                  <a:pt x="16807" y="6712"/>
                  <a:pt x="16619" y="6896"/>
                </a:cubicBezTo>
                <a:cubicBezTo>
                  <a:pt x="16476" y="7036"/>
                  <a:pt x="16368" y="7161"/>
                  <a:pt x="16297" y="7342"/>
                </a:cubicBezTo>
                <a:cubicBezTo>
                  <a:pt x="16231" y="7510"/>
                  <a:pt x="16208" y="7720"/>
                  <a:pt x="16297" y="7888"/>
                </a:cubicBezTo>
                <a:cubicBezTo>
                  <a:pt x="16406" y="8093"/>
                  <a:pt x="16804" y="8280"/>
                  <a:pt x="17016" y="8334"/>
                </a:cubicBezTo>
                <a:cubicBezTo>
                  <a:pt x="17299" y="8407"/>
                  <a:pt x="17583" y="8383"/>
                  <a:pt x="17859" y="8310"/>
                </a:cubicBezTo>
                <a:cubicBezTo>
                  <a:pt x="18043" y="8261"/>
                  <a:pt x="18285" y="8144"/>
                  <a:pt x="18430" y="8012"/>
                </a:cubicBezTo>
                <a:cubicBezTo>
                  <a:pt x="18539" y="7912"/>
                  <a:pt x="18645" y="7796"/>
                  <a:pt x="18752" y="7689"/>
                </a:cubicBezTo>
                <a:cubicBezTo>
                  <a:pt x="18886" y="7556"/>
                  <a:pt x="18968" y="7410"/>
                  <a:pt x="19050" y="7243"/>
                </a:cubicBezTo>
                <a:cubicBezTo>
                  <a:pt x="19122" y="7095"/>
                  <a:pt x="19210" y="6981"/>
                  <a:pt x="19298" y="6846"/>
                </a:cubicBezTo>
                <a:cubicBezTo>
                  <a:pt x="19353" y="6763"/>
                  <a:pt x="19404" y="6678"/>
                  <a:pt x="19422" y="6573"/>
                </a:cubicBezTo>
                <a:cubicBezTo>
                  <a:pt x="19435" y="6499"/>
                  <a:pt x="19400" y="6429"/>
                  <a:pt x="19397" y="6375"/>
                </a:cubicBezTo>
                <a:cubicBezTo>
                  <a:pt x="19397" y="6350"/>
                  <a:pt x="19397" y="6342"/>
                  <a:pt x="19397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0800" y="3598920"/>
            <a:ext cx="509400" cy="223920"/>
          </a:xfrm>
          <a:custGeom>
            <a:avLst/>
            <a:gdLst/>
            <a:ahLst/>
            <a:rect l="l" t="t" r="r" b="b"/>
            <a:pathLst>
              <a:path w="1415" h="621">
                <a:moveTo>
                  <a:pt x="15304" y="9996"/>
                </a:moveTo>
                <a:cubicBezTo>
                  <a:pt x="15304" y="10040"/>
                  <a:pt x="15272" y="10081"/>
                  <a:pt x="15280" y="10120"/>
                </a:cubicBezTo>
                <a:cubicBezTo>
                  <a:pt x="15294" y="10194"/>
                  <a:pt x="15304" y="10244"/>
                  <a:pt x="15304" y="10319"/>
                </a:cubicBezTo>
                <a:cubicBezTo>
                  <a:pt x="15304" y="10391"/>
                  <a:pt x="15312" y="10425"/>
                  <a:pt x="15329" y="10492"/>
                </a:cubicBezTo>
                <a:cubicBezTo>
                  <a:pt x="15343" y="10548"/>
                  <a:pt x="15319" y="10570"/>
                  <a:pt x="15354" y="10616"/>
                </a:cubicBezTo>
              </a:path>
              <a:path w="1415" h="621">
                <a:moveTo>
                  <a:pt x="16669" y="10096"/>
                </a:moveTo>
                <a:cubicBezTo>
                  <a:pt x="16677" y="10096"/>
                  <a:pt x="16686" y="10096"/>
                  <a:pt x="16694" y="10096"/>
                </a:cubicBezTo>
                <a:cubicBezTo>
                  <a:pt x="16683" y="10129"/>
                  <a:pt x="16658" y="10127"/>
                  <a:pt x="16644" y="10170"/>
                </a:cubicBezTo>
                <a:cubicBezTo>
                  <a:pt x="16609" y="10276"/>
                  <a:pt x="16644" y="10455"/>
                  <a:pt x="16644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187800"/>
            <a:ext cx="1741320" cy="876240"/>
          </a:xfrm>
          <a:custGeom>
            <a:avLst/>
            <a:gdLst/>
            <a:ahLst/>
            <a:rect l="l" t="t" r="r" b="b"/>
            <a:pathLst>
              <a:path w="4838" h="2432">
                <a:moveTo>
                  <a:pt x="18802" y="10294"/>
                </a:moveTo>
                <a:cubicBezTo>
                  <a:pt x="18818" y="10247"/>
                  <a:pt x="18893" y="10247"/>
                  <a:pt x="18951" y="10244"/>
                </a:cubicBezTo>
                <a:cubicBezTo>
                  <a:pt x="19041" y="10239"/>
                  <a:pt x="19133" y="10244"/>
                  <a:pt x="19224" y="10244"/>
                </a:cubicBezTo>
              </a:path>
              <a:path w="4838" h="2432">
                <a:moveTo>
                  <a:pt x="18628" y="10517"/>
                </a:moveTo>
                <a:cubicBezTo>
                  <a:pt x="18740" y="10551"/>
                  <a:pt x="18712" y="10509"/>
                  <a:pt x="18802" y="10517"/>
                </a:cubicBezTo>
                <a:cubicBezTo>
                  <a:pt x="18905" y="10526"/>
                  <a:pt x="18969" y="10521"/>
                  <a:pt x="19075" y="10517"/>
                </a:cubicBezTo>
                <a:cubicBezTo>
                  <a:pt x="19121" y="10515"/>
                  <a:pt x="19213" y="10554"/>
                  <a:pt x="19248" y="10542"/>
                </a:cubicBezTo>
                <a:cubicBezTo>
                  <a:pt x="19256" y="10534"/>
                  <a:pt x="19265" y="10525"/>
                  <a:pt x="19273" y="10517"/>
                </a:cubicBezTo>
              </a:path>
              <a:path w="4838" h="2432">
                <a:moveTo>
                  <a:pt x="20762" y="9823"/>
                </a:moveTo>
                <a:cubicBezTo>
                  <a:pt x="20906" y="9823"/>
                  <a:pt x="21041" y="9837"/>
                  <a:pt x="21183" y="9847"/>
                </a:cubicBezTo>
                <a:cubicBezTo>
                  <a:pt x="21292" y="9854"/>
                  <a:pt x="21397" y="9826"/>
                  <a:pt x="21506" y="9823"/>
                </a:cubicBezTo>
                <a:cubicBezTo>
                  <a:pt x="21555" y="9822"/>
                  <a:pt x="21605" y="9823"/>
                  <a:pt x="21654" y="9823"/>
                </a:cubicBezTo>
                <a:cubicBezTo>
                  <a:pt x="21586" y="9961"/>
                  <a:pt x="21506" y="10070"/>
                  <a:pt x="21406" y="10195"/>
                </a:cubicBezTo>
                <a:cubicBezTo>
                  <a:pt x="21316" y="10307"/>
                  <a:pt x="21191" y="10447"/>
                  <a:pt x="21158" y="10592"/>
                </a:cubicBezTo>
                <a:cubicBezTo>
                  <a:pt x="21158" y="10633"/>
                  <a:pt x="21158" y="10641"/>
                  <a:pt x="21158" y="10666"/>
                </a:cubicBezTo>
              </a:path>
              <a:path w="4838" h="2432">
                <a:moveTo>
                  <a:pt x="23366" y="10046"/>
                </a:moveTo>
                <a:cubicBezTo>
                  <a:pt x="23441" y="9905"/>
                  <a:pt x="23482" y="9889"/>
                  <a:pt x="23440" y="9723"/>
                </a:cubicBezTo>
                <a:cubicBezTo>
                  <a:pt x="23385" y="9507"/>
                  <a:pt x="23067" y="9234"/>
                  <a:pt x="22895" y="9103"/>
                </a:cubicBezTo>
                <a:cubicBezTo>
                  <a:pt x="22718" y="8968"/>
                  <a:pt x="22563" y="8913"/>
                  <a:pt x="22349" y="8880"/>
                </a:cubicBezTo>
                <a:cubicBezTo>
                  <a:pt x="21879" y="8807"/>
                  <a:pt x="21467" y="8935"/>
                  <a:pt x="21059" y="9153"/>
                </a:cubicBezTo>
                <a:cubicBezTo>
                  <a:pt x="20811" y="9285"/>
                  <a:pt x="20636" y="9477"/>
                  <a:pt x="20439" y="9674"/>
                </a:cubicBezTo>
                <a:cubicBezTo>
                  <a:pt x="20319" y="9794"/>
                  <a:pt x="20197" y="9915"/>
                  <a:pt x="20092" y="10046"/>
                </a:cubicBezTo>
                <a:cubicBezTo>
                  <a:pt x="20015" y="10142"/>
                  <a:pt x="19930" y="10249"/>
                  <a:pt x="19893" y="10368"/>
                </a:cubicBezTo>
                <a:cubicBezTo>
                  <a:pt x="19855" y="10489"/>
                  <a:pt x="19905" y="10663"/>
                  <a:pt x="19968" y="10765"/>
                </a:cubicBezTo>
                <a:cubicBezTo>
                  <a:pt x="20055" y="10907"/>
                  <a:pt x="20238" y="10980"/>
                  <a:pt x="20389" y="11038"/>
                </a:cubicBezTo>
                <a:cubicBezTo>
                  <a:pt x="20575" y="11109"/>
                  <a:pt x="20766" y="11175"/>
                  <a:pt x="20960" y="11212"/>
                </a:cubicBezTo>
                <a:cubicBezTo>
                  <a:pt x="21184" y="11255"/>
                  <a:pt x="21376" y="11286"/>
                  <a:pt x="21605" y="11286"/>
                </a:cubicBezTo>
                <a:cubicBezTo>
                  <a:pt x="21806" y="11286"/>
                  <a:pt x="22047" y="11207"/>
                  <a:pt x="22225" y="11112"/>
                </a:cubicBezTo>
                <a:cubicBezTo>
                  <a:pt x="22386" y="11026"/>
                  <a:pt x="22540" y="10940"/>
                  <a:pt x="22696" y="10840"/>
                </a:cubicBezTo>
                <a:cubicBezTo>
                  <a:pt x="22825" y="10757"/>
                  <a:pt x="22928" y="10667"/>
                  <a:pt x="23019" y="10542"/>
                </a:cubicBezTo>
                <a:cubicBezTo>
                  <a:pt x="23080" y="10457"/>
                  <a:pt x="23110" y="10362"/>
                  <a:pt x="23143" y="10269"/>
                </a:cubicBezTo>
                <a:cubicBezTo>
                  <a:pt x="23158" y="10228"/>
                  <a:pt x="23193" y="10113"/>
                  <a:pt x="23192" y="10071"/>
                </a:cubicBezTo>
                <a:cubicBezTo>
                  <a:pt x="23191" y="10019"/>
                  <a:pt x="23154" y="9949"/>
                  <a:pt x="23143" y="9897"/>
                </a:cubicBezTo>
                <a:cubicBezTo>
                  <a:pt x="23137" y="9869"/>
                  <a:pt x="23125" y="9828"/>
                  <a:pt x="23118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57200" y="3983040"/>
            <a:ext cx="277920" cy="384120"/>
          </a:xfrm>
          <a:custGeom>
            <a:avLst/>
            <a:gdLst/>
            <a:ahLst/>
            <a:rect l="l" t="t" r="r" b="b"/>
            <a:pathLst>
              <a:path w="770" h="1067">
                <a:moveTo>
                  <a:pt x="3770" y="11336"/>
                </a:moveTo>
                <a:cubicBezTo>
                  <a:pt x="3785" y="11267"/>
                  <a:pt x="3802" y="11208"/>
                  <a:pt x="3870" y="11162"/>
                </a:cubicBezTo>
                <a:cubicBezTo>
                  <a:pt x="3951" y="11106"/>
                  <a:pt x="4164" y="11000"/>
                  <a:pt x="4266" y="11063"/>
                </a:cubicBezTo>
                <a:cubicBezTo>
                  <a:pt x="4309" y="11090"/>
                  <a:pt x="4348" y="11302"/>
                  <a:pt x="4341" y="11361"/>
                </a:cubicBezTo>
                <a:cubicBezTo>
                  <a:pt x="4327" y="11478"/>
                  <a:pt x="4275" y="11540"/>
                  <a:pt x="4192" y="11609"/>
                </a:cubicBezTo>
                <a:cubicBezTo>
                  <a:pt x="4169" y="11631"/>
                  <a:pt x="4161" y="11636"/>
                  <a:pt x="4167" y="11658"/>
                </a:cubicBezTo>
                <a:cubicBezTo>
                  <a:pt x="4272" y="11658"/>
                  <a:pt x="4371" y="11652"/>
                  <a:pt x="4465" y="11708"/>
                </a:cubicBezTo>
                <a:cubicBezTo>
                  <a:pt x="4527" y="11745"/>
                  <a:pt x="4559" y="11810"/>
                  <a:pt x="4539" y="11881"/>
                </a:cubicBezTo>
                <a:cubicBezTo>
                  <a:pt x="4523" y="11937"/>
                  <a:pt x="4464" y="11991"/>
                  <a:pt x="4415" y="12030"/>
                </a:cubicBezTo>
                <a:cubicBezTo>
                  <a:pt x="4307" y="12115"/>
                  <a:pt x="4225" y="12129"/>
                  <a:pt x="4093" y="12129"/>
                </a:cubicBezTo>
                <a:cubicBezTo>
                  <a:pt x="4025" y="12129"/>
                  <a:pt x="3956" y="12124"/>
                  <a:pt x="3894" y="12105"/>
                </a:cubicBezTo>
                <a:cubicBezTo>
                  <a:pt x="3819" y="12082"/>
                  <a:pt x="3840" y="12083"/>
                  <a:pt x="3795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4880" y="4010040"/>
            <a:ext cx="920880" cy="295200"/>
          </a:xfrm>
          <a:custGeom>
            <a:avLst/>
            <a:gdLst/>
            <a:ahLst/>
            <a:rect l="l" t="t" r="r" b="b"/>
            <a:pathLst>
              <a:path w="2556" h="820">
                <a:moveTo>
                  <a:pt x="5209" y="11609"/>
                </a:moveTo>
                <a:cubicBezTo>
                  <a:pt x="5263" y="11577"/>
                  <a:pt x="5365" y="11565"/>
                  <a:pt x="5432" y="11559"/>
                </a:cubicBezTo>
                <a:cubicBezTo>
                  <a:pt x="5534" y="11549"/>
                  <a:pt x="5631" y="11559"/>
                  <a:pt x="5730" y="11534"/>
                </a:cubicBezTo>
                <a:cubicBezTo>
                  <a:pt x="5804" y="11515"/>
                  <a:pt x="5853" y="11509"/>
                  <a:pt x="5928" y="11509"/>
                </a:cubicBezTo>
              </a:path>
              <a:path w="2556" h="820">
                <a:moveTo>
                  <a:pt x="5259" y="11385"/>
                </a:moveTo>
                <a:cubicBezTo>
                  <a:pt x="5303" y="11476"/>
                  <a:pt x="5329" y="11561"/>
                  <a:pt x="5358" y="11658"/>
                </a:cubicBezTo>
                <a:cubicBezTo>
                  <a:pt x="5378" y="11724"/>
                  <a:pt x="5425" y="11790"/>
                  <a:pt x="5432" y="11857"/>
                </a:cubicBezTo>
                <a:cubicBezTo>
                  <a:pt x="5432" y="11881"/>
                  <a:pt x="5432" y="11889"/>
                  <a:pt x="5457" y="11881"/>
                </a:cubicBezTo>
              </a:path>
              <a:path w="2556" h="820">
                <a:moveTo>
                  <a:pt x="6276" y="11286"/>
                </a:moveTo>
                <a:cubicBezTo>
                  <a:pt x="6293" y="11355"/>
                  <a:pt x="6329" y="11336"/>
                  <a:pt x="6400" y="11336"/>
                </a:cubicBezTo>
                <a:cubicBezTo>
                  <a:pt x="6475" y="11336"/>
                  <a:pt x="6525" y="11334"/>
                  <a:pt x="6598" y="11311"/>
                </a:cubicBezTo>
                <a:cubicBezTo>
                  <a:pt x="6658" y="11291"/>
                  <a:pt x="6673" y="11292"/>
                  <a:pt x="6697" y="11261"/>
                </a:cubicBezTo>
              </a:path>
              <a:path w="2556" h="820">
                <a:moveTo>
                  <a:pt x="7218" y="11162"/>
                </a:moveTo>
                <a:cubicBezTo>
                  <a:pt x="7218" y="11096"/>
                  <a:pt x="7218" y="11245"/>
                  <a:pt x="7218" y="11311"/>
                </a:cubicBezTo>
                <a:cubicBezTo>
                  <a:pt x="7218" y="11390"/>
                  <a:pt x="7193" y="11437"/>
                  <a:pt x="7193" y="11509"/>
                </a:cubicBezTo>
                <a:cubicBezTo>
                  <a:pt x="7193" y="11575"/>
                  <a:pt x="7278" y="11537"/>
                  <a:pt x="7317" y="11534"/>
                </a:cubicBezTo>
                <a:cubicBezTo>
                  <a:pt x="7396" y="11528"/>
                  <a:pt x="7477" y="11524"/>
                  <a:pt x="7541" y="11559"/>
                </a:cubicBezTo>
                <a:cubicBezTo>
                  <a:pt x="7598" y="11590"/>
                  <a:pt x="7605" y="11634"/>
                  <a:pt x="7640" y="11683"/>
                </a:cubicBezTo>
                <a:cubicBezTo>
                  <a:pt x="7673" y="11729"/>
                  <a:pt x="7679" y="11763"/>
                  <a:pt x="7640" y="11807"/>
                </a:cubicBezTo>
                <a:cubicBezTo>
                  <a:pt x="7605" y="11846"/>
                  <a:pt x="7592" y="11875"/>
                  <a:pt x="7541" y="11906"/>
                </a:cubicBezTo>
                <a:cubicBezTo>
                  <a:pt x="7490" y="11937"/>
                  <a:pt x="7422" y="11951"/>
                  <a:pt x="7367" y="11956"/>
                </a:cubicBezTo>
                <a:cubicBezTo>
                  <a:pt x="7320" y="11960"/>
                  <a:pt x="7303" y="11958"/>
                  <a:pt x="7268" y="11931"/>
                </a:cubicBezTo>
              </a:path>
              <a:path w="2556" h="820">
                <a:moveTo>
                  <a:pt x="7243" y="11261"/>
                </a:moveTo>
                <a:cubicBezTo>
                  <a:pt x="7243" y="11237"/>
                  <a:pt x="7243" y="11228"/>
                  <a:pt x="7243" y="11212"/>
                </a:cubicBezTo>
                <a:cubicBezTo>
                  <a:pt x="7367" y="11237"/>
                  <a:pt x="7484" y="11186"/>
                  <a:pt x="7615" y="11162"/>
                </a:cubicBezTo>
                <a:cubicBezTo>
                  <a:pt x="7672" y="11152"/>
                  <a:pt x="7747" y="11189"/>
                  <a:pt x="776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84240" y="4473720"/>
            <a:ext cx="1990800" cy="554040"/>
          </a:xfrm>
          <a:custGeom>
            <a:avLst/>
            <a:gdLst/>
            <a:ahLst/>
            <a:rect l="l" t="t" r="r" b="b"/>
            <a:pathLst>
              <a:path w="5532" h="1539">
                <a:moveTo>
                  <a:pt x="5234" y="12502"/>
                </a:moveTo>
                <a:cubicBezTo>
                  <a:pt x="5290" y="12520"/>
                  <a:pt x="5259" y="12637"/>
                  <a:pt x="5259" y="12700"/>
                </a:cubicBezTo>
                <a:cubicBezTo>
                  <a:pt x="5259" y="12708"/>
                  <a:pt x="5259" y="12717"/>
                  <a:pt x="5259" y="12725"/>
                </a:cubicBezTo>
                <a:cubicBezTo>
                  <a:pt x="5363" y="12725"/>
                  <a:pt x="5459" y="12738"/>
                  <a:pt x="5556" y="12750"/>
                </a:cubicBezTo>
                <a:cubicBezTo>
                  <a:pt x="5616" y="12758"/>
                  <a:pt x="5673" y="12757"/>
                  <a:pt x="5705" y="12824"/>
                </a:cubicBezTo>
                <a:cubicBezTo>
                  <a:pt x="5762" y="12944"/>
                  <a:pt x="5669" y="13006"/>
                  <a:pt x="5556" y="13022"/>
                </a:cubicBezTo>
                <a:cubicBezTo>
                  <a:pt x="5453" y="13022"/>
                  <a:pt x="5417" y="13020"/>
                  <a:pt x="5358" y="12973"/>
                </a:cubicBezTo>
              </a:path>
              <a:path w="5532" h="1539">
                <a:moveTo>
                  <a:pt x="5358" y="12477"/>
                </a:moveTo>
                <a:cubicBezTo>
                  <a:pt x="5457" y="12460"/>
                  <a:pt x="5550" y="12411"/>
                  <a:pt x="5655" y="12427"/>
                </a:cubicBezTo>
                <a:cubicBezTo>
                  <a:pt x="5696" y="12447"/>
                  <a:pt x="5702" y="12456"/>
                  <a:pt x="5730" y="12452"/>
                </a:cubicBezTo>
              </a:path>
              <a:path w="5532" h="1539">
                <a:moveTo>
                  <a:pt x="6127" y="12874"/>
                </a:moveTo>
                <a:cubicBezTo>
                  <a:pt x="6256" y="12874"/>
                  <a:pt x="6405" y="12900"/>
                  <a:pt x="6524" y="12849"/>
                </a:cubicBezTo>
              </a:path>
              <a:path w="5532" h="1539">
                <a:moveTo>
                  <a:pt x="6945" y="12452"/>
                </a:moveTo>
                <a:cubicBezTo>
                  <a:pt x="7080" y="12506"/>
                  <a:pt x="7067" y="12540"/>
                  <a:pt x="6970" y="12650"/>
                </a:cubicBezTo>
                <a:cubicBezTo>
                  <a:pt x="6924" y="12702"/>
                  <a:pt x="6879" y="12751"/>
                  <a:pt x="6821" y="12774"/>
                </a:cubicBezTo>
                <a:cubicBezTo>
                  <a:pt x="6926" y="12792"/>
                  <a:pt x="6982" y="12852"/>
                  <a:pt x="7069" y="12898"/>
                </a:cubicBezTo>
                <a:cubicBezTo>
                  <a:pt x="7099" y="12914"/>
                  <a:pt x="7115" y="12946"/>
                  <a:pt x="7119" y="12998"/>
                </a:cubicBezTo>
                <a:cubicBezTo>
                  <a:pt x="7126" y="13099"/>
                  <a:pt x="7058" y="13144"/>
                  <a:pt x="6970" y="13171"/>
                </a:cubicBezTo>
                <a:cubicBezTo>
                  <a:pt x="6939" y="13181"/>
                  <a:pt x="6902" y="13152"/>
                  <a:pt x="6871" y="13146"/>
                </a:cubicBezTo>
              </a:path>
              <a:path w="5532" h="1539">
                <a:moveTo>
                  <a:pt x="7714" y="12824"/>
                </a:moveTo>
                <a:cubicBezTo>
                  <a:pt x="7781" y="12846"/>
                  <a:pt x="7809" y="12833"/>
                  <a:pt x="7913" y="12824"/>
                </a:cubicBezTo>
                <a:cubicBezTo>
                  <a:pt x="8016" y="12815"/>
                  <a:pt x="8123" y="12844"/>
                  <a:pt x="8210" y="12799"/>
                </a:cubicBezTo>
              </a:path>
              <a:path w="5532" h="1539">
                <a:moveTo>
                  <a:pt x="7764" y="13171"/>
                </a:moveTo>
                <a:cubicBezTo>
                  <a:pt x="7866" y="13171"/>
                  <a:pt x="7990" y="13141"/>
                  <a:pt x="8086" y="13146"/>
                </a:cubicBezTo>
                <a:cubicBezTo>
                  <a:pt x="8217" y="13154"/>
                  <a:pt x="8228" y="13201"/>
                  <a:pt x="8334" y="13122"/>
                </a:cubicBezTo>
              </a:path>
              <a:path w="5532" h="1539">
                <a:moveTo>
                  <a:pt x="9054" y="12750"/>
                </a:moveTo>
                <a:cubicBezTo>
                  <a:pt x="9142" y="12700"/>
                  <a:pt x="9249" y="12606"/>
                  <a:pt x="9351" y="12576"/>
                </a:cubicBezTo>
                <a:cubicBezTo>
                  <a:pt x="9449" y="12547"/>
                  <a:pt x="9619" y="12624"/>
                  <a:pt x="9699" y="12675"/>
                </a:cubicBezTo>
                <a:cubicBezTo>
                  <a:pt x="9809" y="12745"/>
                  <a:pt x="9891" y="12789"/>
                  <a:pt x="9897" y="12923"/>
                </a:cubicBezTo>
                <a:cubicBezTo>
                  <a:pt x="9902" y="13045"/>
                  <a:pt x="9849" y="13163"/>
                  <a:pt x="9798" y="13271"/>
                </a:cubicBezTo>
                <a:cubicBezTo>
                  <a:pt x="9739" y="13397"/>
                  <a:pt x="9679" y="13446"/>
                  <a:pt x="9550" y="13494"/>
                </a:cubicBezTo>
                <a:cubicBezTo>
                  <a:pt x="9450" y="13531"/>
                  <a:pt x="9372" y="13535"/>
                  <a:pt x="9302" y="13444"/>
                </a:cubicBezTo>
                <a:cubicBezTo>
                  <a:pt x="9272" y="13405"/>
                  <a:pt x="9256" y="13265"/>
                  <a:pt x="9277" y="13221"/>
                </a:cubicBezTo>
                <a:cubicBezTo>
                  <a:pt x="9312" y="13147"/>
                  <a:pt x="9372" y="13100"/>
                  <a:pt x="9451" y="13097"/>
                </a:cubicBezTo>
                <a:cubicBezTo>
                  <a:pt x="9538" y="13093"/>
                  <a:pt x="9592" y="13098"/>
                  <a:pt x="9674" y="13122"/>
                </a:cubicBezTo>
                <a:cubicBezTo>
                  <a:pt x="9776" y="13152"/>
                  <a:pt x="9853" y="13206"/>
                  <a:pt x="9947" y="13246"/>
                </a:cubicBezTo>
                <a:cubicBezTo>
                  <a:pt x="10000" y="13269"/>
                  <a:pt x="10038" y="13288"/>
                  <a:pt x="10071" y="13320"/>
                </a:cubicBezTo>
                <a:cubicBezTo>
                  <a:pt x="10088" y="13336"/>
                  <a:pt x="10194" y="13469"/>
                  <a:pt x="10195" y="13469"/>
                </a:cubicBezTo>
                <a:cubicBezTo>
                  <a:pt x="10195" y="13452"/>
                  <a:pt x="10195" y="13436"/>
                  <a:pt x="10195" y="13419"/>
                </a:cubicBezTo>
              </a:path>
              <a:path w="5532" h="1539">
                <a:moveTo>
                  <a:pt x="8508" y="12948"/>
                </a:moveTo>
                <a:cubicBezTo>
                  <a:pt x="8508" y="12973"/>
                  <a:pt x="8508" y="12981"/>
                  <a:pt x="8483" y="12973"/>
                </a:cubicBezTo>
                <a:cubicBezTo>
                  <a:pt x="8559" y="13033"/>
                  <a:pt x="8607" y="13022"/>
                  <a:pt x="8706" y="13022"/>
                </a:cubicBezTo>
                <a:cubicBezTo>
                  <a:pt x="8773" y="13022"/>
                  <a:pt x="8818" y="13008"/>
                  <a:pt x="8880" y="12998"/>
                </a:cubicBezTo>
                <a:cubicBezTo>
                  <a:pt x="8937" y="12989"/>
                  <a:pt x="9011" y="12991"/>
                  <a:pt x="9054" y="13022"/>
                </a:cubicBezTo>
              </a:path>
              <a:path w="5532" h="1539">
                <a:moveTo>
                  <a:pt x="10666" y="12725"/>
                </a:moveTo>
                <a:cubicBezTo>
                  <a:pt x="10540" y="12622"/>
                  <a:pt x="10493" y="12619"/>
                  <a:pt x="10319" y="12576"/>
                </a:cubicBezTo>
                <a:cubicBezTo>
                  <a:pt x="10116" y="12526"/>
                  <a:pt x="9862" y="12439"/>
                  <a:pt x="9649" y="12477"/>
                </a:cubicBezTo>
                <a:cubicBezTo>
                  <a:pt x="9509" y="12502"/>
                  <a:pt x="9304" y="12583"/>
                  <a:pt x="9178" y="12650"/>
                </a:cubicBezTo>
                <a:cubicBezTo>
                  <a:pt x="9069" y="12708"/>
                  <a:pt x="8949" y="12817"/>
                  <a:pt x="8855" y="12898"/>
                </a:cubicBezTo>
                <a:cubicBezTo>
                  <a:pt x="8769" y="12972"/>
                  <a:pt x="8706" y="13063"/>
                  <a:pt x="8632" y="13146"/>
                </a:cubicBezTo>
                <a:cubicBezTo>
                  <a:pt x="8566" y="13220"/>
                  <a:pt x="8515" y="13291"/>
                  <a:pt x="8458" y="13370"/>
                </a:cubicBezTo>
                <a:cubicBezTo>
                  <a:pt x="8414" y="13432"/>
                  <a:pt x="8319" y="13475"/>
                  <a:pt x="8285" y="13543"/>
                </a:cubicBezTo>
                <a:cubicBezTo>
                  <a:pt x="8246" y="13622"/>
                  <a:pt x="8245" y="13693"/>
                  <a:pt x="8310" y="13767"/>
                </a:cubicBezTo>
                <a:cubicBezTo>
                  <a:pt x="8390" y="13858"/>
                  <a:pt x="8591" y="13928"/>
                  <a:pt x="8706" y="13940"/>
                </a:cubicBezTo>
                <a:cubicBezTo>
                  <a:pt x="8894" y="13959"/>
                  <a:pt x="9090" y="13968"/>
                  <a:pt x="9277" y="13940"/>
                </a:cubicBezTo>
                <a:cubicBezTo>
                  <a:pt x="9418" y="13919"/>
                  <a:pt x="9517" y="13894"/>
                  <a:pt x="9649" y="13841"/>
                </a:cubicBezTo>
                <a:cubicBezTo>
                  <a:pt x="9763" y="13795"/>
                  <a:pt x="9862" y="13745"/>
                  <a:pt x="9971" y="13692"/>
                </a:cubicBezTo>
                <a:cubicBezTo>
                  <a:pt x="10086" y="13637"/>
                  <a:pt x="10215" y="13545"/>
                  <a:pt x="10319" y="13469"/>
                </a:cubicBezTo>
                <a:cubicBezTo>
                  <a:pt x="10423" y="13393"/>
                  <a:pt x="10554" y="13290"/>
                  <a:pt x="10641" y="13196"/>
                </a:cubicBezTo>
                <a:cubicBezTo>
                  <a:pt x="10699" y="13133"/>
                  <a:pt x="10725" y="13054"/>
                  <a:pt x="10740" y="12973"/>
                </a:cubicBezTo>
                <a:cubicBezTo>
                  <a:pt x="10748" y="12930"/>
                  <a:pt x="10776" y="12845"/>
                  <a:pt x="10765" y="12799"/>
                </a:cubicBezTo>
                <a:cubicBezTo>
                  <a:pt x="10753" y="12747"/>
                  <a:pt x="10705" y="12714"/>
                  <a:pt x="10666" y="12675"/>
                </a:cubicBezTo>
                <a:cubicBezTo>
                  <a:pt x="10658" y="12667"/>
                  <a:pt x="10649" y="12658"/>
                  <a:pt x="10641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06920" y="4321080"/>
            <a:ext cx="2278080" cy="573120"/>
          </a:xfrm>
          <a:custGeom>
            <a:avLst/>
            <a:gdLst/>
            <a:ahLst/>
            <a:rect l="l" t="t" r="r" b="b"/>
            <a:pathLst>
              <a:path w="6326" h="1589">
                <a:moveTo>
                  <a:pt x="12824" y="12626"/>
                </a:moveTo>
                <a:cubicBezTo>
                  <a:pt x="12831" y="12674"/>
                  <a:pt x="12812" y="12733"/>
                  <a:pt x="12799" y="12799"/>
                </a:cubicBezTo>
                <a:cubicBezTo>
                  <a:pt x="12886" y="12851"/>
                  <a:pt x="13070" y="12806"/>
                  <a:pt x="13196" y="12824"/>
                </a:cubicBezTo>
                <a:cubicBezTo>
                  <a:pt x="13289" y="12837"/>
                  <a:pt x="13314" y="12851"/>
                  <a:pt x="13295" y="12948"/>
                </a:cubicBezTo>
                <a:cubicBezTo>
                  <a:pt x="13277" y="13039"/>
                  <a:pt x="13186" y="13205"/>
                  <a:pt x="13072" y="13122"/>
                </a:cubicBezTo>
                <a:cubicBezTo>
                  <a:pt x="13055" y="13097"/>
                  <a:pt x="13039" y="13072"/>
                  <a:pt x="13022" y="13047"/>
                </a:cubicBezTo>
              </a:path>
              <a:path w="6326" h="1589">
                <a:moveTo>
                  <a:pt x="12874" y="12551"/>
                </a:moveTo>
                <a:cubicBezTo>
                  <a:pt x="12903" y="12506"/>
                  <a:pt x="13056" y="12493"/>
                  <a:pt x="13122" y="12477"/>
                </a:cubicBezTo>
                <a:cubicBezTo>
                  <a:pt x="13193" y="12460"/>
                  <a:pt x="13228" y="12452"/>
                  <a:pt x="13295" y="12452"/>
                </a:cubicBezTo>
              </a:path>
              <a:path w="6326" h="1589">
                <a:moveTo>
                  <a:pt x="13543" y="13246"/>
                </a:moveTo>
                <a:cubicBezTo>
                  <a:pt x="13594" y="13265"/>
                  <a:pt x="13613" y="13271"/>
                  <a:pt x="13667" y="13271"/>
                </a:cubicBezTo>
              </a:path>
              <a:path w="6326" h="1589">
                <a:moveTo>
                  <a:pt x="13444" y="12005"/>
                </a:moveTo>
                <a:cubicBezTo>
                  <a:pt x="13577" y="12029"/>
                  <a:pt x="13669" y="12082"/>
                  <a:pt x="13791" y="12154"/>
                </a:cubicBezTo>
                <a:cubicBezTo>
                  <a:pt x="13996" y="12275"/>
                  <a:pt x="14227" y="12455"/>
                  <a:pt x="14337" y="12675"/>
                </a:cubicBezTo>
                <a:cubicBezTo>
                  <a:pt x="14403" y="12806"/>
                  <a:pt x="14347" y="12976"/>
                  <a:pt x="14288" y="13097"/>
                </a:cubicBezTo>
                <a:cubicBezTo>
                  <a:pt x="14232" y="13213"/>
                  <a:pt x="14148" y="13344"/>
                  <a:pt x="14039" y="13419"/>
                </a:cubicBezTo>
                <a:cubicBezTo>
                  <a:pt x="13964" y="13471"/>
                  <a:pt x="13858" y="13517"/>
                  <a:pt x="13791" y="13568"/>
                </a:cubicBezTo>
                <a:cubicBezTo>
                  <a:pt x="13783" y="13576"/>
                  <a:pt x="13775" y="13585"/>
                  <a:pt x="13767" y="13593"/>
                </a:cubicBezTo>
              </a:path>
              <a:path w="6326" h="1589">
                <a:moveTo>
                  <a:pt x="15280" y="12328"/>
                </a:moveTo>
                <a:cubicBezTo>
                  <a:pt x="15280" y="12496"/>
                  <a:pt x="15295" y="12657"/>
                  <a:pt x="15304" y="12824"/>
                </a:cubicBezTo>
                <a:cubicBezTo>
                  <a:pt x="15310" y="12931"/>
                  <a:pt x="15304" y="13039"/>
                  <a:pt x="15304" y="13146"/>
                </a:cubicBezTo>
              </a:path>
              <a:path w="6326" h="1589">
                <a:moveTo>
                  <a:pt x="16520" y="12626"/>
                </a:moveTo>
                <a:cubicBezTo>
                  <a:pt x="16520" y="12543"/>
                  <a:pt x="16445" y="12485"/>
                  <a:pt x="16371" y="12452"/>
                </a:cubicBezTo>
                <a:cubicBezTo>
                  <a:pt x="16260" y="12403"/>
                  <a:pt x="16106" y="12429"/>
                  <a:pt x="15999" y="12477"/>
                </a:cubicBezTo>
                <a:cubicBezTo>
                  <a:pt x="15931" y="12508"/>
                  <a:pt x="15849" y="12611"/>
                  <a:pt x="15925" y="12675"/>
                </a:cubicBezTo>
                <a:cubicBezTo>
                  <a:pt x="16020" y="12754"/>
                  <a:pt x="16234" y="12754"/>
                  <a:pt x="16346" y="12700"/>
                </a:cubicBezTo>
                <a:cubicBezTo>
                  <a:pt x="16402" y="12673"/>
                  <a:pt x="16391" y="12639"/>
                  <a:pt x="16446" y="12626"/>
                </a:cubicBezTo>
                <a:cubicBezTo>
                  <a:pt x="16430" y="12723"/>
                  <a:pt x="16405" y="12821"/>
                  <a:pt x="16421" y="12923"/>
                </a:cubicBezTo>
                <a:cubicBezTo>
                  <a:pt x="16437" y="13024"/>
                  <a:pt x="16459" y="13162"/>
                  <a:pt x="16495" y="13246"/>
                </a:cubicBezTo>
              </a:path>
              <a:path w="6326" h="1589">
                <a:moveTo>
                  <a:pt x="17041" y="12898"/>
                </a:moveTo>
                <a:cubicBezTo>
                  <a:pt x="17123" y="12885"/>
                  <a:pt x="17207" y="12858"/>
                  <a:pt x="17289" y="12849"/>
                </a:cubicBezTo>
                <a:cubicBezTo>
                  <a:pt x="17353" y="12842"/>
                  <a:pt x="17422" y="12849"/>
                  <a:pt x="17487" y="12849"/>
                </a:cubicBezTo>
              </a:path>
              <a:path w="6326" h="1589">
                <a:moveTo>
                  <a:pt x="18058" y="12675"/>
                </a:moveTo>
                <a:cubicBezTo>
                  <a:pt x="18058" y="12700"/>
                  <a:pt x="18058" y="12708"/>
                  <a:pt x="18058" y="12725"/>
                </a:cubicBezTo>
                <a:cubicBezTo>
                  <a:pt x="18135" y="12734"/>
                  <a:pt x="18202" y="12750"/>
                  <a:pt x="18281" y="12750"/>
                </a:cubicBezTo>
                <a:cubicBezTo>
                  <a:pt x="18351" y="12750"/>
                  <a:pt x="18386" y="12744"/>
                  <a:pt x="18455" y="12725"/>
                </a:cubicBezTo>
              </a:path>
              <a:path w="6326" h="1589">
                <a:moveTo>
                  <a:pt x="19124" y="12551"/>
                </a:moveTo>
                <a:cubicBezTo>
                  <a:pt x="19124" y="12644"/>
                  <a:pt x="19102" y="12729"/>
                  <a:pt x="19100" y="12824"/>
                </a:cubicBezTo>
                <a:cubicBezTo>
                  <a:pt x="19096" y="12986"/>
                  <a:pt x="19097" y="13136"/>
                  <a:pt x="19075" y="13295"/>
                </a:cubicBezTo>
                <a:cubicBezTo>
                  <a:pt x="19069" y="13335"/>
                  <a:pt x="19075" y="13378"/>
                  <a:pt x="19075" y="13419"/>
                </a:cubicBezTo>
              </a:path>
              <a:path w="6326" h="1589">
                <a:moveTo>
                  <a:pt x="18405" y="12601"/>
                </a:moveTo>
                <a:cubicBezTo>
                  <a:pt x="18392" y="12561"/>
                  <a:pt x="18393" y="12591"/>
                  <a:pt x="18380" y="12551"/>
                </a:cubicBezTo>
                <a:cubicBezTo>
                  <a:pt x="18369" y="12596"/>
                  <a:pt x="18330" y="12629"/>
                  <a:pt x="18306" y="12675"/>
                </a:cubicBezTo>
                <a:cubicBezTo>
                  <a:pt x="18277" y="12730"/>
                  <a:pt x="18261" y="12787"/>
                  <a:pt x="18256" y="12849"/>
                </a:cubicBezTo>
                <a:cubicBezTo>
                  <a:pt x="18253" y="12890"/>
                  <a:pt x="18256" y="12932"/>
                  <a:pt x="18256" y="12973"/>
                </a:cubicBezTo>
                <a:cubicBezTo>
                  <a:pt x="18284" y="12973"/>
                  <a:pt x="18295" y="12975"/>
                  <a:pt x="18306" y="12998"/>
                </a:cubicBezTo>
              </a:path>
              <a:path w="6326" h="1589">
                <a:moveTo>
                  <a:pt x="17289" y="12700"/>
                </a:moveTo>
                <a:cubicBezTo>
                  <a:pt x="17265" y="12757"/>
                  <a:pt x="17248" y="12851"/>
                  <a:pt x="17264" y="12923"/>
                </a:cubicBezTo>
                <a:cubicBezTo>
                  <a:pt x="17287" y="13029"/>
                  <a:pt x="17307" y="13137"/>
                  <a:pt x="17314" y="13246"/>
                </a:cubicBezTo>
                <a:cubicBezTo>
                  <a:pt x="17314" y="13271"/>
                  <a:pt x="17314" y="13279"/>
                  <a:pt x="17338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69120" y="4581360"/>
            <a:ext cx="1224000" cy="320760"/>
          </a:xfrm>
          <a:custGeom>
            <a:avLst/>
            <a:gdLst/>
            <a:ahLst/>
            <a:rect l="l" t="t" r="r" b="b"/>
            <a:pathLst>
              <a:path w="3399" h="894">
                <a:moveTo>
                  <a:pt x="20315" y="12849"/>
                </a:moveTo>
                <a:cubicBezTo>
                  <a:pt x="20423" y="12849"/>
                  <a:pt x="20530" y="12849"/>
                  <a:pt x="20638" y="12849"/>
                </a:cubicBezTo>
              </a:path>
              <a:path w="3399" h="894">
                <a:moveTo>
                  <a:pt x="20191" y="13196"/>
                </a:moveTo>
                <a:cubicBezTo>
                  <a:pt x="20283" y="13196"/>
                  <a:pt x="20352" y="13203"/>
                  <a:pt x="20439" y="13196"/>
                </a:cubicBezTo>
                <a:cubicBezTo>
                  <a:pt x="20553" y="13187"/>
                  <a:pt x="20653" y="13196"/>
                  <a:pt x="20762" y="13171"/>
                </a:cubicBezTo>
                <a:cubicBezTo>
                  <a:pt x="20770" y="13171"/>
                  <a:pt x="20778" y="13171"/>
                  <a:pt x="20786" y="13171"/>
                </a:cubicBezTo>
              </a:path>
              <a:path w="3399" h="894">
                <a:moveTo>
                  <a:pt x="21332" y="12799"/>
                </a:moveTo>
                <a:cubicBezTo>
                  <a:pt x="21460" y="12788"/>
                  <a:pt x="21600" y="12718"/>
                  <a:pt x="21729" y="12725"/>
                </a:cubicBezTo>
                <a:cubicBezTo>
                  <a:pt x="21850" y="12732"/>
                  <a:pt x="22048" y="12789"/>
                  <a:pt x="22151" y="12849"/>
                </a:cubicBezTo>
                <a:cubicBezTo>
                  <a:pt x="22273" y="12921"/>
                  <a:pt x="22250" y="13053"/>
                  <a:pt x="22250" y="13171"/>
                </a:cubicBezTo>
                <a:cubicBezTo>
                  <a:pt x="22250" y="13275"/>
                  <a:pt x="22231" y="13434"/>
                  <a:pt x="22126" y="13494"/>
                </a:cubicBezTo>
                <a:cubicBezTo>
                  <a:pt x="22016" y="13557"/>
                  <a:pt x="21790" y="13556"/>
                  <a:pt x="21679" y="13494"/>
                </a:cubicBezTo>
                <a:cubicBezTo>
                  <a:pt x="21615" y="13458"/>
                  <a:pt x="21547" y="13376"/>
                  <a:pt x="21506" y="13320"/>
                </a:cubicBezTo>
                <a:cubicBezTo>
                  <a:pt x="21548" y="13228"/>
                  <a:pt x="21464" y="13244"/>
                  <a:pt x="21630" y="13196"/>
                </a:cubicBezTo>
                <a:cubicBezTo>
                  <a:pt x="21722" y="13170"/>
                  <a:pt x="21829" y="13197"/>
                  <a:pt x="21903" y="13246"/>
                </a:cubicBezTo>
                <a:cubicBezTo>
                  <a:pt x="22005" y="13314"/>
                  <a:pt x="22127" y="13355"/>
                  <a:pt x="22225" y="13419"/>
                </a:cubicBezTo>
                <a:cubicBezTo>
                  <a:pt x="22278" y="13454"/>
                  <a:pt x="22383" y="13521"/>
                  <a:pt x="22423" y="13568"/>
                </a:cubicBezTo>
                <a:cubicBezTo>
                  <a:pt x="22487" y="13643"/>
                  <a:pt x="22427" y="13598"/>
                  <a:pt x="22498" y="13618"/>
                </a:cubicBezTo>
              </a:path>
              <a:path w="3399" h="894">
                <a:moveTo>
                  <a:pt x="23168" y="12849"/>
                </a:moveTo>
                <a:cubicBezTo>
                  <a:pt x="23107" y="12801"/>
                  <a:pt x="23070" y="12754"/>
                  <a:pt x="22969" y="12799"/>
                </a:cubicBezTo>
                <a:cubicBezTo>
                  <a:pt x="22856" y="12850"/>
                  <a:pt x="22769" y="12924"/>
                  <a:pt x="22696" y="13022"/>
                </a:cubicBezTo>
                <a:cubicBezTo>
                  <a:pt x="22629" y="13112"/>
                  <a:pt x="22591" y="13258"/>
                  <a:pt x="22622" y="13370"/>
                </a:cubicBezTo>
                <a:cubicBezTo>
                  <a:pt x="22632" y="13406"/>
                  <a:pt x="22719" y="13548"/>
                  <a:pt x="22746" y="13568"/>
                </a:cubicBezTo>
                <a:cubicBezTo>
                  <a:pt x="22836" y="13633"/>
                  <a:pt x="22999" y="13598"/>
                  <a:pt x="23093" y="13593"/>
                </a:cubicBezTo>
                <a:cubicBezTo>
                  <a:pt x="23173" y="13589"/>
                  <a:pt x="23246" y="13580"/>
                  <a:pt x="23316" y="13543"/>
                </a:cubicBezTo>
                <a:cubicBezTo>
                  <a:pt x="23417" y="13489"/>
                  <a:pt x="23523" y="13407"/>
                  <a:pt x="23564" y="13295"/>
                </a:cubicBezTo>
                <a:cubicBezTo>
                  <a:pt x="23592" y="13217"/>
                  <a:pt x="23583" y="13126"/>
                  <a:pt x="23564" y="13047"/>
                </a:cubicBezTo>
                <a:cubicBezTo>
                  <a:pt x="23545" y="12967"/>
                  <a:pt x="23501" y="12897"/>
                  <a:pt x="23465" y="12824"/>
                </a:cubicBezTo>
                <a:cubicBezTo>
                  <a:pt x="23448" y="12790"/>
                  <a:pt x="23413" y="12734"/>
                  <a:pt x="23366" y="12725"/>
                </a:cubicBezTo>
                <a:cubicBezTo>
                  <a:pt x="23341" y="12725"/>
                  <a:pt x="23317" y="12725"/>
                  <a:pt x="23292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3160" y="1938240"/>
            <a:ext cx="46080" cy="20484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5606" y="5383"/>
                </a:moveTo>
                <a:cubicBezTo>
                  <a:pt x="5581" y="5383"/>
                  <a:pt x="5573" y="5383"/>
                  <a:pt x="5556" y="5383"/>
                </a:cubicBezTo>
                <a:cubicBezTo>
                  <a:pt x="5556" y="5424"/>
                  <a:pt x="5544" y="5498"/>
                  <a:pt x="5531" y="5531"/>
                </a:cubicBezTo>
                <a:cubicBezTo>
                  <a:pt x="5515" y="5572"/>
                  <a:pt x="5507" y="5581"/>
                  <a:pt x="5507" y="5631"/>
                </a:cubicBezTo>
                <a:cubicBezTo>
                  <a:pt x="5507" y="5685"/>
                  <a:pt x="5487" y="5710"/>
                  <a:pt x="5482" y="5755"/>
                </a:cubicBezTo>
                <a:cubicBezTo>
                  <a:pt x="5475" y="5819"/>
                  <a:pt x="5482" y="5888"/>
                  <a:pt x="5482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920" y="1963800"/>
            <a:ext cx="17280" cy="198360"/>
          </a:xfrm>
          <a:custGeom>
            <a:avLst/>
            <a:gdLst/>
            <a:ahLst/>
            <a:rect l="l" t="t" r="r" b="b"/>
            <a:pathLst>
              <a:path w="51" h="547">
                <a:moveTo>
                  <a:pt x="7020" y="5482"/>
                </a:moveTo>
                <a:cubicBezTo>
                  <a:pt x="7020" y="5414"/>
                  <a:pt x="6996" y="5609"/>
                  <a:pt x="6995" y="5631"/>
                </a:cubicBezTo>
                <a:cubicBezTo>
                  <a:pt x="6991" y="5711"/>
                  <a:pt x="6974" y="5778"/>
                  <a:pt x="6970" y="5854"/>
                </a:cubicBezTo>
                <a:cubicBezTo>
                  <a:pt x="6966" y="5918"/>
                  <a:pt x="6982" y="5950"/>
                  <a:pt x="6995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2960" y="2374920"/>
            <a:ext cx="187200" cy="233280"/>
          </a:xfrm>
          <a:custGeom>
            <a:avLst/>
            <a:gdLst/>
            <a:ahLst/>
            <a:rect l="l" t="t" r="r" b="b"/>
            <a:pathLst>
              <a:path w="522" h="646">
                <a:moveTo>
                  <a:pt x="5531" y="6846"/>
                </a:moveTo>
                <a:cubicBezTo>
                  <a:pt x="5523" y="6802"/>
                  <a:pt x="5516" y="6705"/>
                  <a:pt x="5482" y="6672"/>
                </a:cubicBezTo>
                <a:cubicBezTo>
                  <a:pt x="5407" y="6598"/>
                  <a:pt x="5305" y="6595"/>
                  <a:pt x="5209" y="6623"/>
                </a:cubicBezTo>
                <a:cubicBezTo>
                  <a:pt x="5120" y="6649"/>
                  <a:pt x="4988" y="6701"/>
                  <a:pt x="5035" y="6821"/>
                </a:cubicBezTo>
                <a:cubicBezTo>
                  <a:pt x="5067" y="6904"/>
                  <a:pt x="5230" y="6865"/>
                  <a:pt x="5283" y="6846"/>
                </a:cubicBezTo>
                <a:cubicBezTo>
                  <a:pt x="5333" y="6828"/>
                  <a:pt x="5381" y="6792"/>
                  <a:pt x="5407" y="6772"/>
                </a:cubicBezTo>
                <a:cubicBezTo>
                  <a:pt x="5442" y="6746"/>
                  <a:pt x="5468" y="6710"/>
                  <a:pt x="5507" y="6697"/>
                </a:cubicBezTo>
                <a:cubicBezTo>
                  <a:pt x="5515" y="6697"/>
                  <a:pt x="5523" y="6697"/>
                  <a:pt x="5531" y="6697"/>
                </a:cubicBezTo>
                <a:cubicBezTo>
                  <a:pt x="5531" y="6852"/>
                  <a:pt x="5502" y="7109"/>
                  <a:pt x="5556" y="7218"/>
                </a:cubicBezTo>
                <a:cubicBezTo>
                  <a:pt x="5556" y="7226"/>
                  <a:pt x="5556" y="7235"/>
                  <a:pt x="5556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6080" y="2482920"/>
            <a:ext cx="152280" cy="17280"/>
          </a:xfrm>
          <a:custGeom>
            <a:avLst/>
            <a:gdLst/>
            <a:ahLst/>
            <a:rect l="l" t="t" r="r" b="b"/>
            <a:pathLst>
              <a:path w="422" h="50">
                <a:moveTo>
                  <a:pt x="5879" y="6945"/>
                </a:moveTo>
                <a:cubicBezTo>
                  <a:pt x="5997" y="6929"/>
                  <a:pt x="6106" y="6901"/>
                  <a:pt x="6226" y="6896"/>
                </a:cubicBezTo>
                <a:cubicBezTo>
                  <a:pt x="6259" y="6896"/>
                  <a:pt x="6275" y="6896"/>
                  <a:pt x="6300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7280" y="2340000"/>
            <a:ext cx="258840" cy="249120"/>
          </a:xfrm>
          <a:custGeom>
            <a:avLst/>
            <a:gdLst/>
            <a:ahLst/>
            <a:rect l="l" t="t" r="r" b="b"/>
            <a:pathLst>
              <a:path w="721" h="695">
                <a:moveTo>
                  <a:pt x="6772" y="6548"/>
                </a:moveTo>
                <a:cubicBezTo>
                  <a:pt x="6909" y="6509"/>
                  <a:pt x="6983" y="6473"/>
                  <a:pt x="7094" y="6573"/>
                </a:cubicBezTo>
                <a:cubicBezTo>
                  <a:pt x="7185" y="6655"/>
                  <a:pt x="7186" y="6760"/>
                  <a:pt x="7144" y="6871"/>
                </a:cubicBezTo>
                <a:cubicBezTo>
                  <a:pt x="7087" y="7022"/>
                  <a:pt x="6976" y="7099"/>
                  <a:pt x="6821" y="7119"/>
                </a:cubicBezTo>
                <a:cubicBezTo>
                  <a:pt x="6735" y="7130"/>
                  <a:pt x="6611" y="7118"/>
                  <a:pt x="6573" y="7045"/>
                </a:cubicBezTo>
                <a:cubicBezTo>
                  <a:pt x="6533" y="6965"/>
                  <a:pt x="6673" y="6936"/>
                  <a:pt x="6747" y="6921"/>
                </a:cubicBezTo>
                <a:cubicBezTo>
                  <a:pt x="6849" y="6901"/>
                  <a:pt x="6878" y="6972"/>
                  <a:pt x="6945" y="7020"/>
                </a:cubicBezTo>
                <a:cubicBezTo>
                  <a:pt x="7001" y="7060"/>
                  <a:pt x="7108" y="7150"/>
                  <a:pt x="7169" y="7169"/>
                </a:cubicBezTo>
                <a:cubicBezTo>
                  <a:pt x="7240" y="7191"/>
                  <a:pt x="7193" y="7181"/>
                  <a:pt x="7268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17800" y="2840040"/>
            <a:ext cx="277560" cy="241200"/>
          </a:xfrm>
          <a:custGeom>
            <a:avLst/>
            <a:gdLst/>
            <a:ahLst/>
            <a:rect l="l" t="t" r="r" b="b"/>
            <a:pathLst>
              <a:path w="770" h="671">
                <a:moveTo>
                  <a:pt x="5631" y="7888"/>
                </a:moveTo>
                <a:cubicBezTo>
                  <a:pt x="5564" y="7888"/>
                  <a:pt x="5756" y="7913"/>
                  <a:pt x="5779" y="7913"/>
                </a:cubicBezTo>
                <a:cubicBezTo>
                  <a:pt x="5947" y="7917"/>
                  <a:pt x="6108" y="7888"/>
                  <a:pt x="6276" y="7888"/>
                </a:cubicBezTo>
                <a:cubicBezTo>
                  <a:pt x="6309" y="7888"/>
                  <a:pt x="6342" y="7888"/>
                  <a:pt x="6375" y="7888"/>
                </a:cubicBezTo>
                <a:cubicBezTo>
                  <a:pt x="6356" y="7982"/>
                  <a:pt x="6311" y="8070"/>
                  <a:pt x="6276" y="8161"/>
                </a:cubicBezTo>
                <a:cubicBezTo>
                  <a:pt x="6245" y="8242"/>
                  <a:pt x="6227" y="8331"/>
                  <a:pt x="6201" y="8409"/>
                </a:cubicBezTo>
                <a:cubicBezTo>
                  <a:pt x="6182" y="8465"/>
                  <a:pt x="6176" y="8499"/>
                  <a:pt x="6176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0 – (-4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- 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12 – (-13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9 -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) –12 -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) -28 - 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) 18 -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) -45 - (-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anne elizabeth mcgrath</cp:lastModifiedBy>
  <dcterms:modified xsi:type="dcterms:W3CDTF">2011-04-08T16:31:53Z</dcterms:modified>
  <cp:revision>9</cp:revision>
  <dc:subject/>
  <dc:title>Unit 12: Integers </dc:title>
</cp:coreProperties>
</file>